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F59A-80FF-4C2B-BAEA-2D9ED5605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F2F-0D4B-4A8F-A3E2-0EA4F984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F75-8A2C-4DDB-ACFB-F904D749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407-5652-444C-9E50-65B0C2F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2D2-A488-4AF6-ADC0-B9B4FB80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B80-A51C-4162-BF16-83AC2ECF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586-4BE6-4ECB-805D-9B2CE52F0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822E-2E01-403E-B270-5602CEC7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EB22-6409-455E-9C1B-19FDA472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426-2197-4F14-BD80-E9477283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3E8-5175-4C9E-9E11-FFA16359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341D-1686-4CC1-9456-4FD36122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2F09-8C82-45CE-A968-13451AABF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nese Coo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cken Frie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ely dice half an o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piece of cooked chicken to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rasher of lean bacon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t an egg in a cup with a level teaspoon of 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rost half a cup frozen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23040" y="2948040"/>
            <a:ext cx="24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king the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l a mug with long gra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a half full saucepan of water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il for 9 minut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from heat and fill with col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in into a s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rice to the empty saucepan an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3600" y="3240000"/>
            <a:ext cx="2425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the fried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ll the ingredients to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3 tbsp oil in a wok or large frying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onion and bacon and fry for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down the heat and add the beaten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k until i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to break it up into small pieces and then turn up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chicken and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2T18:01:42Z</dcterms:modified>
  <cp:revision>3</cp:revision>
  <dc:subject/>
  <dc:title>Chinese Cookery</dc:title>
</cp:coreProperties>
</file>