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A704E-3697-440C-82F5-A8DDF766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396D2-572D-4BA3-8568-A70DC854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9A723-A4AF-40BD-83E9-ACEE31F9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D001E-8A8B-4C57-B928-ED034338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C141-1BD4-43D9-9E55-FECE4537A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3F0F-BA1F-4662-9721-ABE8B932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B4BA-9634-4DA9-989C-33B2D575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8F5D-9608-4D57-A5AE-7D8994DB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B6C8-AA12-466E-AE2E-59B6EE36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F7A6-D62E-4199-97E1-8A4D19D2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81D2-4DB4-44AF-AA3D-7A657E58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74AFB-7D9F-4CC6-BF43-B20857F44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368B-3B96-4E36-9D35-AB241DC0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A512-0433-4559-B971-4C8D4809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D6A2C-6816-4EE8-B23E-EE07C8F6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63B1-3606-40F3-9134-FAC5E429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0FDD-57CD-4BC7-8B6C-096269F1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F1ADC-FD05-4181-BA9E-4AF84ADD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72AE3-5763-4C46-85D9-7F5206EC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98355-6555-4CEE-B4A6-A6C896A2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CCA44-91F9-447B-BE20-D0AEDDC3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4F956-4FD4-49E5-96E2-E33BE9CC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50665-05EF-4F38-8CA7-3B027350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935BC-25E8-42F3-B223-4D2B0260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5351-DB14-4A4C-BA2D-C88FCAAF585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4140-BA6E-4C14-9950-C1B46BCB5F3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ahoma"/>
              </a:rPr>
              <a:t>Chinese Cookery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hicken Fried R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Preparat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nely dice half an on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ice a piece of cooked chicken to the same si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ice a rasher of lean bacon the same w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at an egg in a cup with a level teaspoon of sal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rost half a cup frozen pe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423040" y="2949480"/>
            <a:ext cx="2489040" cy="18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Cooking the ri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ill a mug with long grain r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ring a half full saucepan of water to the boi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hen boiling, add the rice and stir until it comes back to the boi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oil for 9 minutes on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move from heat and fill with cold wa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rain into a sie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turn rice to the empty saucepan and cov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63600" y="3241800"/>
            <a:ext cx="2425680" cy="12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cc"/>
                </a:solidFill>
                <a:latin typeface="Tahoma"/>
              </a:rPr>
              <a:t>Making the fried ric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ave all the ingredients to h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eat 3 tbsp oil in a wok or large frying p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d the onion and bacon and fry for 2 minu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urn down the heat and add the beaten eg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ok until it se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tir to break it up into small pieces and then turn up the he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d the chicken and pe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643280" y="4076640"/>
            <a:ext cx="4032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ir and add 1 tsp of soy    sau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ix in the boiled r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ason with salt &amp; pepper and stir and heat throug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18080" y="1600200"/>
            <a:ext cx="22986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Tahoma"/>
              </a:rPr>
              <a:t>BON APPETIT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7:06:57Z</dcterms:created>
  <dc:creator>Gary Martin</dc:creator>
  <dc:description/>
  <dc:language>en-US</dc:language>
  <cp:lastModifiedBy>Gary Martin</cp:lastModifiedBy>
  <dcterms:modified xsi:type="dcterms:W3CDTF">2003-01-03T09:04:11Z</dcterms:modified>
  <cp:revision>7</cp:revision>
  <dc:subject/>
  <dc:title>Chinese Cookery</dc:title>
</cp:coreProperties>
</file>