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7A38-A266-4C45-B023-69FDA2894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2E0C-4C97-4AAD-A94D-7ECA52296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F1F0-D3AD-4BBA-AD86-A48381937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7562-FE14-4424-B0DB-0D9AF0FCA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99FB-FFE2-453C-B858-ED72C1A18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6CC5-804A-4C9E-AEF0-89619A6A3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FE05-D88C-4322-ACEA-D820E701C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C399-EB89-4651-A1AD-AC86EE82A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B301-E36D-4063-B557-040D0377D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ECD1-C7C7-430E-8724-8C03ADED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F4BA-06CA-444C-921A-B97F973A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5559-4DB4-4866-AFAA-741CE6F5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58FF3-09DA-45A7-B577-50F41F9E6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hinese Cooke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icken Fried 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ep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nely dice half an on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ce a piece of cooked chicken to the same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ce a rasher of lean bacon the same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at an egg in a cup with a level teaspoon of sa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frost half a cup frozen p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423040" y="2948040"/>
            <a:ext cx="24890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oking the r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ll a mug with long grain 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ring a half full saucepan of water to the bo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boiling, add the rice and stir until it comes back to the bo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il for 9 minute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move from heat and fill with cold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ain into a sie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turn rice to the empty saucepan and c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63600" y="3240000"/>
            <a:ext cx="242568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king the fried r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ve all the ingredients to h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at 3 tbsp oil in a wok or large frying 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d the onion and bacon and fry for 2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urn down the heat and add the beaten eg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ok until it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ir to break it up into small pieces and then turn up the h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d the chicken and p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43280" y="4076640"/>
            <a:ext cx="40323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ir and add 1 tsp of soy    sau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x in the boiled 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ason with salt &amp; pepper and stir and heat throug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518080" y="1600200"/>
            <a:ext cx="229860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2T17:06:57Z</dcterms:created>
  <dc:creator>Gary Martin</dc:creator>
  <dc:description/>
  <dc:language>en-US</dc:language>
  <cp:lastModifiedBy>Gary Martin</cp:lastModifiedBy>
  <dcterms:modified xsi:type="dcterms:W3CDTF">2003-01-02T17:42:46Z</dcterms:modified>
  <cp:revision>2</cp:revision>
  <dc:subject/>
  <dc:title>Chinese Cookery</dc:title>
</cp:coreProperties>
</file>