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943A-BBF9-4C8B-9B63-86852085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5EB7-5D46-4A6A-B8C0-498B1109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D739-8542-4159-BE93-DAD53ADB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7BF9-E367-4A23-9CB1-D3BF6977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878B3-D325-4C55-9370-E158300D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6AD90-7BCD-47C7-9D33-277502DFB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45D9B-B09E-48F0-817B-8B200C90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95827-74CF-42FC-8A4E-61FDA721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492CB-665D-4A7D-9E07-3D18E238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3AD589-1409-43EF-9244-EB0265E7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11DFF-4FC2-4BBD-B2D5-F6F17064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2EA-7A75-45CC-8E65-1AF6A022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6FCAA-C9E9-44F8-8BD8-571502C7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5ED01-9686-4749-88B2-E038CA34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B5EA66-BE64-487B-951A-B799B8DB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A6317C-6C42-4D0D-B3D5-0678126B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75F5D-FFBA-487E-8569-2F7598AD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A2FD-CC58-4A5C-A679-C31131B3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F024-1581-4115-8DC4-8F2AB524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359E-09D6-4DB5-A4D6-15DE08EE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145C-D5AF-4BCD-8D8C-53E0C181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E0A-ECA6-49DE-8D41-C77AC3F8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0E28-43A1-4475-8528-6CB5AD42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D554-2874-4ACB-8030-3246B175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22BC-691D-4522-A126-0D138C8EC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7931-5BDC-403C-B065-C1EBF4D7D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</a:rPr>
              <a:t>Electronic whiteboards and Powerpoint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838080" indent="0" algn="ct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2565000"/>
            <a:ext cx="64008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Duration 2 hou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mphasis on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Tahoma"/>
              </a:rPr>
              <a:t>Practical  and enjoya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ahoma"/>
              </a:rPr>
              <a:t>Electronic whiteboard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quipment neede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actical iss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58640"/>
            <a:ext cx="8229600" cy="37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use as a teaching t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for the pupils to present their work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to record an ev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33336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Suitable uses for Powerpoint in the classro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Today’s agend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Game of Who Wants to be a Millionai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ow Chinese Cookery presenta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Practical exercise creating PP presenta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mo a few good examples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ahoma"/>
              </a:rPr>
              <a:t>Agenda (continued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How to personalise the Millionaire file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imary Maths using the whiteboar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ook at the PP examples from teacher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ool ideas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vide CD to 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5T16:27:38Z</dcterms:created>
  <dc:creator>Gary Martin</dc:creator>
  <dc:description/>
  <dc:language>en-US</dc:language>
  <cp:lastModifiedBy>Gary Martin</cp:lastModifiedBy>
  <dcterms:modified xsi:type="dcterms:W3CDTF">2003-01-05T16:44:38Z</dcterms:modified>
  <cp:revision>2</cp:revision>
  <dc:subject/>
  <dc:title>Electronic whiteboards and Powerpoint  </dc:title>
</cp:coreProperties>
</file>