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981-61FC-4108-BFE1-5CA264E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EE7-31A8-49F6-9A42-C375222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DAD-6943-4E49-BBA3-51EFDCAE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83B-8AA8-482C-B30D-52DF5E15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BC9-88C1-4044-BD73-82E47B05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EE8-E87C-4FAC-A918-F3F1830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8D92-3B30-475A-A2D9-219AA33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3113-3168-4517-B846-980147C9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FCC-D6C7-4C03-A7B7-17A9F7F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E2F-7D44-464B-B924-A094518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4CA-2EB0-46AD-8DCC-A4B5843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697-7900-4771-A708-731B09B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341D-2CF2-4859-96A1-DA0F10F8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671E-00DB-432A-A8F5-4275E1E9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1D2-0023-4D86-8032-4AFDDC2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2C9-CC6A-413E-8039-6226E0E5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E27E-F2B9-48CA-9A66-38B7EBCF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493-A453-46D2-B7FE-1987318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6CE-8D44-404D-A3C1-85A6538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251-B143-4EEA-8AC1-BADFB03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0FE-A7CF-4303-88FA-45D1B24B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886-55C1-4CAD-BECB-D007240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A88-A1DD-40E0-86CC-5A2DFE4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79F-8AB4-432E-A4B4-F9CB216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B7E-FDF1-4211-9EAA-48C82A9048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B86D-5491-44A5-9B83-7AE51EAB7C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APPLAUSE.WAV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Wants to be a Millionai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Quiz G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095880" y="45720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800600"/>
            <a:ext cx="1295640" cy="129528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just won £3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205740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1337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219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many players are there on a football team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20040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1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048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5791320" y="3886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9718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886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21280" y="3124080"/>
            <a:ext cx="2925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country would you find Par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German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 U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Austral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657600" y="2286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657600" y="30481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91520" y="2209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7391520" y="312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16668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sport would you use a sab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290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Fenc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Po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Ju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Lacros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3581280" y="3352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315200" y="32767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4191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114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28600" y="3200400"/>
            <a:ext cx="1557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51460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C - 11 play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lost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5181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3657600" y="5334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rect!  You have won £10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rId1"/>
          </p:cNvPr>
          <p:cNvSpPr/>
          <p:nvPr/>
        </p:nvSpPr>
        <p:spPr>
          <a:xfrm>
            <a:off x="3505320" y="28195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95480"/>
            <a:ext cx="8254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r answer was, France.  You had £1000.  You now have £2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403848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352680"/>
            <a:ext cx="1195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60948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question was, “In which country would you find Paris.  The correct answer was D - France.  You have just lost £1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  <a:hlinkClick r:id="rId1"/>
          </p:cNvPr>
          <p:cNvSpPr/>
          <p:nvPr/>
        </p:nvSpPr>
        <p:spPr>
          <a:xfrm>
            <a:off x="3505320" y="373392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88620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533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A - Fencing.  You have just lost £2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endshow"/>
            <a:hlinkClick r:id="rId1"/>
          </p:cNvPr>
          <p:cNvSpPr/>
          <p:nvPr/>
        </p:nvSpPr>
        <p:spPr>
          <a:xfrm>
            <a:off x="3429000" y="2895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048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3:27:23Z</dcterms:created>
  <dc:creator>Caroline Coster</dc:creator>
  <dc:description/>
  <dc:language>en-US</dc:language>
  <cp:lastModifiedBy>Caroline Coster</cp:lastModifiedBy>
  <dcterms:modified xsi:type="dcterms:W3CDTF">2001-02-22T14:06:15Z</dcterms:modified>
  <cp:revision>1</cp:revision>
  <dc:subject/>
  <dc:title>Who Wants to be a Millionaire?</dc:title>
</cp:coreProperties>
</file>