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7552-A052-4554-9AB3-B74E9E1681B2}" type="slidenum"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V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loops back to the first working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introduction as a whole class activity this presentation can be used individually for further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Identify what is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dentify the initial phoneme, click to bring it in and see if you were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Continue until complete word is buil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Re-read the 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ssible Extension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copy the word on to the white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rite the word from memory onto the white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flashcards of the same words.  Look at the picture together.  Ask who thinks they may have that word on their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ADA-4F26-4634-923E-7CE6D19F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5C8-5568-4CAA-AD3C-6EB41A0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ADB-DC97-4534-A3FE-9BEED3D7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489-87C4-4326-A02E-1A319A0A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C73-444E-484E-BAF1-3E554900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E86-614A-4417-8913-2DDBA577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4BF-9742-4AC6-B317-73B981F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6D6-05B2-4B33-8E5B-FA66F87C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43B-680A-4C0E-B556-DAF63A03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1DA-D500-4C54-A9DD-D9206AB5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CCF-58B3-49B5-BCBF-09936AC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5B0-2C82-46E4-B816-F0264179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7811-2E10-40E8-AE8B-E4380E77D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VC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onant/vowel/conson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National Literacy Strateg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on in Phonics, Step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819520" y="3429000"/>
          <a:ext cx="386712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429000"/>
                    <a:ext cx="3867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819520" y="6094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6094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609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62520" y="2743200"/>
          <a:ext cx="1376280" cy="31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743200"/>
                    <a:ext cx="13762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666880" y="533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609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09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276720" y="3657600"/>
          <a:ext cx="228600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657600"/>
                    <a:ext cx="22860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590920" y="762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7621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762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c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14600" y="3429000"/>
          <a:ext cx="387684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429000"/>
                    <a:ext cx="3876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666880" y="76212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762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7621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666880" y="2666880"/>
          <a:ext cx="3867120" cy="331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666880"/>
                    <a:ext cx="38671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609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609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609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124080" y="3200400"/>
          <a:ext cx="265752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200400"/>
                    <a:ext cx="26575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19520" y="457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57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5720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590920" y="3581280"/>
          <a:ext cx="3867120" cy="113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581280"/>
                    <a:ext cx="38671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971800" y="6858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685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68580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895480" y="2819520"/>
          <a:ext cx="3505320" cy="34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19520"/>
                    <a:ext cx="3505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971800" y="457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57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457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352680" y="2743200"/>
          <a:ext cx="2476800" cy="37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743200"/>
                    <a:ext cx="2476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362320" y="533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5335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5335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971800" y="3276720"/>
          <a:ext cx="3876840" cy="255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276720"/>
                    <a:ext cx="38768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124080" y="609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60948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609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971800" y="2438280"/>
          <a:ext cx="3279600" cy="35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27960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00400" y="6858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685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685800"/>
            <a:ext cx="1905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8:01:30Z</dcterms:created>
  <dc:creator>Veronica</dc:creator>
  <dc:description/>
  <dc:language>en-US</dc:language>
  <cp:lastModifiedBy>Mike Freedman</cp:lastModifiedBy>
  <dcterms:modified xsi:type="dcterms:W3CDTF">2001-02-23T17:16:49Z</dcterms:modified>
  <cp:revision>14</cp:revision>
  <dc:subject/>
  <dc:title>No Slide Title</dc:title>
</cp:coreProperties>
</file>