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D40-4E8E-4C9A-AE0C-16C8315F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5F0-6C79-477A-878B-9108B1AB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3C1-7262-4C29-8A64-E7F93302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0A1-F59C-4D2E-B8B3-C95AE60B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3D0B-A3A4-42A7-A9A3-6A9DA10B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7D833-FF2D-435F-BBD3-D7A9ECE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A5E65-7BCA-462A-BFB2-30D02D1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179C8-85F2-437B-ADEC-73CA1CB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57D4-2FAC-4BD7-9FDB-CD1CA23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1EAD-1D4F-40E4-BAFE-40431A9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ECD7B-3AA1-4DD6-BBED-71A2C29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24D-4D26-43ED-A8C1-E514D80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2A842-D206-4FC2-9937-9EB15A7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1F773-5677-41DE-BEF1-809C00A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F25F2-D991-4204-A2A1-9DBC2CB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0E2CE-21B5-43ED-A7F7-3B0B6F6B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33972-F7AB-47FB-A333-5C1DDDCC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54F-0C8C-4293-8B0A-7BCE2A31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9C4-ABD4-4561-B09B-C07A756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A95-24FE-471E-83DC-19F07B5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9D3-CB54-4E28-9810-8BBB8E06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62B-67CC-451E-AE12-31B3BCE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ADF-6CC6-49D2-AD08-CC9C206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BD7-A0AC-4BC5-B0C2-B400CAD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595C-DD92-480A-86A4-78216F918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2E41-2B51-4F8A-8413-BCE7FD1CB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ords containing ‘-ie’ and ‘-cei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group the following words and make observations as to any patterns you obser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Here they a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t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h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i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h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re is an old spelling ru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cc00"/>
                </a:solidFill>
                <a:latin typeface="Tahoma"/>
              </a:rPr>
              <a:t>i before e except after c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d you find any exceptions to this ru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phonemes do these graphemes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cc00"/>
                </a:solidFill>
                <a:latin typeface="Tahoma"/>
              </a:rPr>
              <a:t>ei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600"/>
                </a:solidFill>
                <a:latin typeface="Tahoma"/>
              </a:rPr>
              <a:t>cei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1:04:36Z</dcterms:created>
  <dc:creator>Jane Armstrong</dc:creator>
  <dc:description/>
  <dc:language>en-US</dc:language>
  <cp:lastModifiedBy>Jane Armstrong</cp:lastModifiedBy>
  <dcterms:modified xsi:type="dcterms:W3CDTF">2005-01-01T11:17:36Z</dcterms:modified>
  <cp:revision>1</cp:revision>
  <dc:subject/>
  <dc:title>Words containing ‘-ie’ and ‘-cei’</dc:title>
</cp:coreProperties>
</file>