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breeze.wav" ContentType="audio/x-wav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835C-374E-40D8-925D-7C7A915A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6D63-A36F-471B-8128-62240979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A7D8-31BB-45A3-997F-F54578B2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72D5-3A83-4632-B559-3C7A8D08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D7A8-2C72-4496-A39D-0B0BFBA3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7839-EFBE-41B3-A07B-073A2AC6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B6A5-B065-42E1-AA95-4EBCABB2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7E66-AA17-45C3-9730-919E782C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1E8B-8CCF-49C8-9BE5-946CD78F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748D-DDA9-4873-8C18-40FE9FEC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D9FB-C7EC-4CA2-AF68-F385BA8F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D5B7-9008-4DEA-9D6F-397F6BEA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E515-0EBC-4970-8575-193F4B99CC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degg.com/pies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www.poetryofimage.com/pine%2520trees%2520in%2520snow.jpg&amp;imgrefurl=http://www.poetryofimage.com/nature2.htm&amp;h=630&amp;w=473&amp;prev=/images%3Fq%3Dpine%2Btrees%26svnum%3D10%26hl%3Den%26lr%3D%26ie%3DUTF-8%26oe%3DUTF-8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www.clasohm.com/photodb/img/4917-md.jpg&amp;imgrefurl=http://www.clasohm.com/photodb/photo%3Fphoto_id%3D4917&amp;h=620&amp;w=683&amp;prev=/images%3Fq%3Dblack%2Bknight%26svnum%3D10%26hl%3Den%26lr%3D%26ie%3DUTF-8%26oe%3DUTF-8%26sa%3D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freespace.virgin.net/abi.bown/illustrations/charlotte.jpg&amp;imgrefurl=http://freespace.virgin.net/abi.bown/chapters/charlotte.html&amp;h=400&amp;w=456&amp;prev=/images%3Fq%3Dcharlottes%2Bweb%26svnum%3D10%26hl%3Den%26lr%3D%26ie%3DUTF-8%26oe%3DUTF-8%26sa%3DG" TargetMode="External"/><Relationship Id="rId2" Type="http://schemas.openxmlformats.org/officeDocument/2006/relationships/image" Target="../media/image4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www.washington.edu/newsroom/news/images/flies.jpg&amp;imgrefurl=http://www.washington.edu/newsroom/news/images/&amp;h=1000&amp;w=1280&amp;prev=/images%3Fq%3Dflies%26svnum%3D10%26hl%3Den%26lr%3D%26ie%3DUTF-8%26oe%3DUTF-8%26sa%3D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ctiontreasurehunts.co.uk/images/red%20london%20bus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Comic Sans MS"/>
              </a:rPr>
              <a:t>The long vowel phoneme 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is linked to </a:t>
            </a:r>
            <a:r>
              <a:rPr b="1" lang="en-GB" sz="1800" spc="-1" strike="noStrike" u="sng">
                <a:solidFill>
                  <a:srgbClr val="ffffff"/>
                </a:solidFill>
                <a:uFillTx/>
                <a:latin typeface="Comic Sans MS"/>
              </a:rPr>
              <a:t>four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 different spelling choices or graphe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Comic Sans MS"/>
              </a:rPr>
              <a:t>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1800" spc="-1" strike="noStrike">
                <a:solidFill>
                  <a:srgbClr val="99ff66"/>
                </a:solidFill>
                <a:latin typeface="Comic Sans MS"/>
              </a:rPr>
              <a:t>i-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i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1800" spc="-1" strike="noStrike">
                <a:solidFill>
                  <a:srgbClr val="6699ff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So you have many graphemes to remember this week! Let’s start with </a:t>
            </a:r>
            <a:r>
              <a:rPr b="0" lang="en-GB" sz="3200" spc="-1" strike="noStrike" u="sng">
                <a:solidFill>
                  <a:srgbClr val="99ff66"/>
                </a:solidFill>
                <a:uFillTx/>
                <a:latin typeface="Comic Sans MS"/>
              </a:rPr>
              <a:t>i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emember the rhym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Comic Sans MS"/>
              </a:rPr>
              <a:t>‘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When two vowels go a-walking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The one in front does the talking.’</a:t>
            </a:r>
            <a:r>
              <a:rPr b="1" i="1" lang="en-GB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ffff"/>
                </a:solidFill>
                <a:latin typeface="Comic Sans MS"/>
              </a:rPr>
              <a:t>Well you can use it with to jog your memory when you use </a:t>
            </a:r>
            <a:r>
              <a:rPr b="1" i="1" lang="en-GB" sz="2400" spc="-1" strike="noStrike">
                <a:solidFill>
                  <a:srgbClr val="99ff66"/>
                </a:solidFill>
                <a:latin typeface="Comic Sans MS"/>
              </a:rPr>
              <a:t>ie</a:t>
            </a:r>
            <a:r>
              <a:rPr b="1" i="1" lang="en-GB" sz="2400" spc="-1" strike="noStrike">
                <a:solidFill>
                  <a:srgbClr val="00ffff"/>
                </a:solidFill>
                <a:latin typeface="Comic Sans MS"/>
              </a:rPr>
              <a:t> in a wo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r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’d just love some of that cheese and onion pie, but I’m on a diet!” sighed poor old m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2349360"/>
            <a:ext cx="207648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Let’s move on to 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i-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placed at the end of the word makes the vowel in front say it’s n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ip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im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id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id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n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lid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lic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ip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mil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in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ip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quit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rit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it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k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il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 quite like to write about the beautiful pine trees in my garden, when they are covered in soft white sno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844640"/>
            <a:ext cx="154764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Comic Sans MS"/>
              </a:rPr>
              <a:t>The next grapheme is probably the most tricky so you had better put on your thinking caps for this one!</a:t>
            </a:r>
            <a:br>
              <a:rPr sz="2400"/>
            </a:b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It’s </a:t>
            </a:r>
            <a:r>
              <a:rPr b="0" i="1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igh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was a terrible 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 to see the brave k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 f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 the evil black k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 in the tourna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497480"/>
            <a:ext cx="2160720" cy="1969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99"/>
                </a:solidFill>
                <a:latin typeface="Comic Sans MS"/>
              </a:rPr>
              <a:t>The last one is </a:t>
            </a:r>
            <a:r>
              <a:rPr b="0" lang="en-GB" sz="6600" spc="-1" strike="noStrike">
                <a:solidFill>
                  <a:srgbClr val="ff0066"/>
                </a:solidFill>
                <a:latin typeface="Comic Sans MS"/>
              </a:rPr>
              <a:t>y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This one is easy to remember as this grapheme usually appears at the end of a wor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Which one is the odd one out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Ju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f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bu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gu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p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w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Bye, bye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Comic Sans MS"/>
              </a:rPr>
              <a:t>Wilbur the amazing pig could only cry when his shy friend Charlotte the spider died, in his sty in Jul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Comic Sans MS"/>
              </a:rPr>
              <a:t>“</a:t>
            </a:r>
            <a:r>
              <a:rPr b="0" lang="en-GB" sz="2000" spc="-1" strike="noStrike">
                <a:solidFill>
                  <a:srgbClr val="ff0066"/>
                </a:solidFill>
                <a:latin typeface="Comic Sans MS"/>
              </a:rPr>
              <a:t>Bye, bye, Charlotte, my true friend”, he sobb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3789360"/>
            <a:ext cx="2592360" cy="2276640"/>
          </a:xfrm>
          <a:prstGeom prst="rect">
            <a:avLst/>
          </a:prstGeom>
          <a:ln w="0">
            <a:noFill/>
          </a:ln>
        </p:spPr>
      </p:pic>
    </p:spTree>
  </p:cSld>
  <p:transition>
    <p:cover dir="ld"/>
    <p:sndAc>
      <p:stSnd>
        <p:snd r:embed="rId3" name="breeze.wav"/>
      </p:stSnd>
    </p:sndAc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Comic Sans MS"/>
              </a:rPr>
              <a:t>Now it’s your turn, write the words as plurals.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Remember with words ending in y, take off the y and add –ies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i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r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 hate flies as they carry germs,” said Mrs. Mo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1844640"/>
            <a:ext cx="28260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8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3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8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So what’s been happening lately to Peter Goodfellow, the kindly tramp?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2184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t had been raining and Peter had gone to hide in a bus shelter. With a smile he wiped his face with his tie. He dug down into his jacket pocket and found a two pound coins. A bright red bus was coming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 might just ride on the bus for a mile or two and stop off for a nice, slice of pie and some fried tomatoes at The Light Bite Cafe. Wonderful!” he sigh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4941720"/>
            <a:ext cx="1841400" cy="1730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948360" y="5661000"/>
            <a:ext cx="1663920" cy="990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Comic Sans MS"/>
              </a:rPr>
              <a:t>Well did you spot all of th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e</a:t>
            </a:r>
            <a:r>
              <a:rPr b="0" lang="en-GB" sz="2800" spc="-1" strike="noStrike">
                <a:solidFill>
                  <a:srgbClr val="ffff99"/>
                </a:solidFill>
                <a:latin typeface="Comic Sans MS"/>
              </a:rPr>
              <a:t> phoneme words? There were 14, did you find them all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2184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t had been raining and Peter had gone to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id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in a bus shelter. With a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smil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h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wiped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his face with his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ti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. He dug down into his jacket pocket and found a two pound coins. A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bright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red bus was coming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 might just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rid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on the bus for a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mil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or two and stop off for a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ic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slic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of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pi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and som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fried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tomatoes at Th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Light Bit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Cafe. Wonderful!” h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sighed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451640" y="4653000"/>
            <a:ext cx="151632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Comic Sans MS"/>
              </a:rPr>
              <a:t>Can you remember all the graphemes that can be used to make the long vowel phoneme,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e</a:t>
            </a:r>
            <a:r>
              <a:rPr b="0" lang="en-GB" sz="2800" spc="-1" strike="noStrike">
                <a:solidFill>
                  <a:srgbClr val="ffff99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i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i-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ig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5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5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5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5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5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5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1T15:56:06Z</dcterms:created>
  <dc:creator>Jane Armstrong</dc:creator>
  <dc:description/>
  <dc:language>en-US</dc:language>
  <cp:lastModifiedBy>Jane Armstrong</cp:lastModifiedBy>
  <dcterms:modified xsi:type="dcterms:W3CDTF">2003-11-01T17:15:32Z</dcterms:modified>
  <cp:revision>2</cp:revision>
  <dc:subject/>
  <dc:title>The long vowel phoneme ie</dc:title>
</cp:coreProperties>
</file>