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9BB-AEDC-4CE1-9DEE-CE286612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322-5D48-4710-AA0A-E0797E67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0E0-B472-488C-9CA1-6B20D030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6E0-1CF0-4D06-BC6C-E4A14D46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120B-2F0D-4685-BD1D-41D52BF9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D713-FA90-4DD9-A92A-C8CB7282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CEDA-64C6-4890-A8A3-F2DDD4E0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ADF6-CB5B-4350-89B8-ADF04967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72D4-9814-4091-A689-4CB4EFB2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0FA0-0382-4E31-94AF-571A95E4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D688-6E14-4CDA-AC3E-8C4D6D0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FE4-0A59-4E2D-9E14-D2315483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C42F-3CB6-4749-8B7B-ED287B80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ADC4-271F-4BEC-93C6-D73E5E9E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652B-9DDE-4271-9080-8D6B5512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845C-3889-462B-8967-32A0137D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2829-7D41-402E-A291-CB5C6ACC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931-68BD-4630-8FD9-AD8E3B98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2C2-77B3-4E54-BE2B-166C9A07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F5E-78B0-480A-BC22-348CAE32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CFF-A8CF-49F2-B85F-D6F0848E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DD5-C1DC-4708-A77B-CE229B38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3F2-E7FA-419F-84FE-543A495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4AC-4E51-4646-A736-E155AD5C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6C45-DA28-4D03-A561-DC65B062B1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D166-7661-43D5-A3A2-BEC5FD14A6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dding suffixes to words with modifying </a:t>
            </a:r>
            <a:r>
              <a:rPr b="1" lang="en-GB" sz="5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elling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691056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RUL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rop the e to add vowel suffix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tain  the e to add consonant suffixes</a:t>
            </a:r>
            <a:br>
              <a:rPr sz="2000"/>
            </a:b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omplete the table below using your wipeboard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Root word       ing        ed       ly      l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a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u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x and match a handful of base words with different suffi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230184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omic Sans MS"/>
              </a:rPr>
              <a:t>Useful base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hear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ic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maz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i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616200" y="1916280"/>
            <a:ext cx="181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1773360"/>
            <a:ext cx="5040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Vowel suffixes        Consonant suffixes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g                   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d                    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h                  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r                    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t                   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35840" y="1797120"/>
            <a:ext cx="21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03840" y="17254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6560" y="1797120"/>
            <a:ext cx="275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4:28:00Z</dcterms:created>
  <dc:creator>Jane Armstrong</dc:creator>
  <dc:description/>
  <dc:language>en-US</dc:language>
  <cp:lastModifiedBy>Jane Armstrong</cp:lastModifiedBy>
  <dcterms:modified xsi:type="dcterms:W3CDTF">2005-04-06T14:45:18Z</dcterms:modified>
  <cp:revision>1</cp:revision>
  <dc:subject/>
  <dc:title>Adding suffixes to words with modifying e</dc:title>
</cp:coreProperties>
</file>