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A161-45A1-4B0B-9799-6A6CEB40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378A-79E2-4D53-A1CB-C57685B0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CFFA-372B-4562-A04E-85D98179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DAA1-23C5-42D6-A5C2-89A7945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DF71-E189-482B-AEFF-36EE2A14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44B2-27ED-44C3-80E1-E265202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7C68-A0F4-44E1-AC83-517C7F4F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AF7A-EE93-4B66-8ACC-67B8501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3F4A-19B6-43BE-B356-86B42F1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0F66-8EA6-4A7D-AA98-0D10E3D8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CC2-13A7-4868-BA48-EA88EEC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1E70-6C85-41AC-8C86-0B2EF3FD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A88-856D-435F-8083-882BEB8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8937-1B6D-45D9-AB2B-78F9063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46CC-E18C-4292-BA4C-5538C33D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4C3-17DA-41CA-B1A3-8D7CB697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9441-E5F8-4D48-956C-2C74B1C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B24A-B6C1-440E-90C7-28594BF7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60C9-62BB-4DCB-9199-51344C2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B6CB-BB43-4CB0-A7E8-212DCB8A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40F7-66C7-4D82-A270-EFAA4D05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DB5F-8B6C-4617-9012-3C7C044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0636-BA85-4B11-B3AC-C1285D0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DDD9-74D9-4FF5-8B76-B5DB1EE7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36D-E6CA-4009-9F91-CE48343D6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D0F-EDFB-4095-862D-10E45F2C9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ords that contain unstressed vow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we remember the spellings of these tricky word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84720" y="549000"/>
            <a:ext cx="2735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i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a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ighten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ospit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jewell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sseng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as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im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epara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volunt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ott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pa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23050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xplan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lat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i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arvell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om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87280" y="476280"/>
            <a:ext cx="287964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is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ois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af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m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d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eave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171612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8560" y="47628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56844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ing your list of tricky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the words into the following categories – ending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that contai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root words for as many of the words as you c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prefix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suff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9:17:50Z</dcterms:created>
  <dc:creator>Jane Armstrong</dc:creator>
  <dc:description/>
  <dc:language>en-US</dc:language>
  <cp:lastModifiedBy>Jane Armstrong</cp:lastModifiedBy>
  <dcterms:modified xsi:type="dcterms:W3CDTF">2005-06-07T07:09:47Z</dcterms:modified>
  <cp:revision>2</cp:revision>
  <dc:subject/>
  <dc:title>Words that contain unstressed vowels</dc:title>
</cp:coreProperties>
</file>