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A7D-C8CB-421E-9970-F37DCFAB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871-D065-4DBC-9D68-325BE397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44C-1105-4278-BD5D-D44B1706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046-7AC3-43E6-BEC3-297541E4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8638-3CE5-4946-B5E0-A036B207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1066-BE97-4F0D-8026-0CA2A114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6B5A-934E-4BF9-A936-4C0C8966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E113-83AA-4324-B015-B86DCB12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6451-1257-4862-B3AB-5D351797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4FCA-2A1D-412A-907D-90BC3C0E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854E-5FDF-409A-AD21-39AD5D9D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45D-ABFF-4997-9DB4-2A774C3C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5FF2-772A-475E-AEB1-9691042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B7AE-4FAD-4BD0-8B05-1FA98FD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48E1-6C1C-4EFF-966E-38C0EEAC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FCC5-B57F-4EFF-B98B-5964802E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73C-66F8-4097-8ACF-A7899DC7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FBD-9C64-4257-93B6-40C316E4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7CC-3DCE-4E43-AA58-85BF5AE9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DF1-782F-4096-B4D1-615242C5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028-C0C2-42A9-924E-1BFEEE6A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953-8957-494E-BCBE-F0054C7A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6B9-34CD-4BE4-A46F-F50370C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6B5-F3DC-4B2E-949C-211ABC1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F942-F0BF-4A03-AF1D-F914EE48FE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A317-2014-4DD2-8410-58F2DCCDE1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dding the Suffix ‘</a:t>
            </a: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ful</a:t>
            </a: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’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What rules do we need to remember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When ‘ful’ is added to a word as a suffix, only one l is us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ar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beauti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deligh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grat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help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hop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pain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peac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skil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though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truth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wast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wil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wonder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The same applies to other words, normally having double ‘l’, when used as a prefix or a suffix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99ff"/>
                </a:solidFill>
                <a:latin typeface="Arial"/>
              </a:rPr>
              <a:t>Fulfil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99ff"/>
                </a:solidFill>
                <a:latin typeface="Arial"/>
              </a:rPr>
              <a:t>Skilful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99ff"/>
                </a:solidFill>
                <a:latin typeface="Arial"/>
              </a:rPr>
              <a:t>wilful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BC font"/>
              </a:rPr>
              <a:t>What do these word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ABC font"/>
              </a:rPr>
              <a:t>artfu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ABC font"/>
              </a:rPr>
              <a:t>skilfu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ABC font"/>
              </a:rPr>
              <a:t>wilfu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00720" y="1771560"/>
            <a:ext cx="373356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Now get you wipe boards at the ready. Scan the text and write down all the </a:t>
            </a:r>
            <a:r>
              <a:rPr b="1" lang="en-GB" sz="3200" spc="-1" strike="noStrike">
                <a:solidFill>
                  <a:srgbClr val="ff6600"/>
                </a:solidFill>
                <a:latin typeface="ABC font"/>
              </a:rPr>
              <a:t>–ful</a:t>
            </a: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 words you can spo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66"/>
                </a:solidFill>
                <a:uFillTx/>
                <a:latin typeface="Arial"/>
              </a:rPr>
              <a:t>Skilful Goal-keep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BC font"/>
              </a:rPr>
              <a:t>Scotland was successful in the European Cup on Saturday because of the skilful tactics of the goal keeper Bobby Marti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BC font"/>
              </a:rPr>
              <a:t>He played a wonderful game, although he received a painful knee injury in the first half. His team-mates were helpful and the crowd demonstrated that they were always hopeful of a win. The fans were peaceful and the other side were wasteful of the chances which came their wa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BC font"/>
              </a:rPr>
              <a:t>Scotland will now meet Germany in the semi-final next Thursda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id you spot them all? There were 8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uccess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kil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Wonder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Pain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Help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Hope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Peace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Waste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3810240" cy="2743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Turn </a:t>
            </a:r>
            <a:r>
              <a:rPr b="1" lang="en-GB" sz="3200" spc="-1" strike="noStrike">
                <a:solidFill>
                  <a:srgbClr val="ff6600"/>
                </a:solidFill>
                <a:latin typeface="ABC font"/>
              </a:rPr>
              <a:t>y</a:t>
            </a: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 at the end of a word into </a:t>
            </a:r>
            <a:r>
              <a:rPr b="1" lang="en-GB" sz="3200" spc="-1" strike="noStrike">
                <a:solidFill>
                  <a:srgbClr val="ff6600"/>
                </a:solidFill>
                <a:latin typeface="ABC font"/>
              </a:rPr>
              <a:t>i</a:t>
            </a: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 when you add fu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Beau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Beaut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ff"/>
                </a:solidFill>
                <a:latin typeface="ABC font"/>
              </a:rPr>
              <a:t>Ple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ff"/>
                </a:solidFill>
                <a:latin typeface="ABC font"/>
              </a:rPr>
              <a:t>Plent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Fa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Fanc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BC font"/>
              </a:rPr>
              <a:t>Mer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BC font"/>
              </a:rPr>
              <a:t>Merc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BC font"/>
              </a:rPr>
              <a:t>P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BC font"/>
              </a:rPr>
              <a:t>pit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22482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Now if </a:t>
            </a:r>
            <a:r>
              <a:rPr b="1" lang="en-GB" sz="3200" spc="-1" strike="noStrike" u="sng">
                <a:solidFill>
                  <a:srgbClr val="ff6600"/>
                </a:solidFill>
                <a:uFillTx/>
                <a:latin typeface="Arial"/>
              </a:rPr>
              <a:t>ly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 to a word which already ends in ‘l’, then the ‘l’ is doubl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e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beauti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hope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uccess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truth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wonder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kilfull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and so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TASK: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Can you write a complex sentence that includes one or more of these word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1486080" cy="1905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38760" y="3778200"/>
            <a:ext cx="279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20:43:50Z</dcterms:created>
  <dc:creator>Jane Armstrong</dc:creator>
  <dc:description/>
  <dc:language>en-US</dc:language>
  <cp:lastModifiedBy>Jane Armstrong</cp:lastModifiedBy>
  <dcterms:modified xsi:type="dcterms:W3CDTF">2005-01-01T21:19:55Z</dcterms:modified>
  <cp:revision>4</cp:revision>
  <dc:subject/>
  <dc:title>Adding the Suffix ‘ful’</dc:title>
</cp:coreProperties>
</file>