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B49-50F1-4E2B-879A-C40B4D89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B54-C714-4450-89AC-1C51C7D1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C92-F68C-451B-AFB3-2AF18A4D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C7C-E533-4FB2-A931-CD9B7F94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B88A-1279-4201-A7DF-E5F777CF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4422-F753-41F1-9882-10D099FA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B430-5EAB-40A9-80CA-3A7EEB6D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316D-2FEB-44C9-A59D-B4ECABF3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0A7D-5C6A-40D0-B413-AB711F36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2476-E2E9-4D4C-864C-7C3443C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F5CC-F842-4A77-9C6D-304D38A6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1EF-DA7E-4E6A-8389-AD8A444A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0E29-88F9-4688-A16F-35F3A3F5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3D44-6ABB-4A1D-A0A3-05A792A2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F4D9-890B-4E1C-A864-5BF605F3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E734-5967-4432-898F-3678AB27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4A7A-9E81-446E-A504-9F5ED1C9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361-36FB-4790-ACF2-9AD75935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348-2508-450E-A384-BDB8F086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E23-FF90-4164-A870-A70D4F72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6FA-C581-4425-A994-8760F510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C66-6C92-49D0-9F4C-F843B5E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F49-882D-4B92-AAAC-2121000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149-E04D-44DB-A3D0-6E3CD952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CAD8-3951-4D6C-A827-0BBF41BDB5D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8754-C016-4FD2-AE39-827D323F284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hyperlink" Target="http://images.google.co.uk/imgres?imgurl=http://www.klipp-lischner.net/arthur/pictures/weigh-in.jpg&amp;imgrefurl=http://www.klipp-lischner.net/arthur/pictures.cgi%3Fsortby%3Dtime&amp;h=597&amp;w=883&amp;sz=24&amp;tbnid=-fHo5SgoV0EJ:&amp;tbnh=98&amp;tbnw=144&amp;start=7&amp;prev=/images%3Fq%3Dweigh%26hl%3Den%26lr%3D%26sa%3D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7d47d"/>
                </a:solidFill>
                <a:latin typeface="Arial"/>
              </a:rPr>
              <a:t>ie and ei words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BC font"/>
              </a:rPr>
              <a:t>Are there any rules which would help us learn, which grapheme to u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7d47d"/>
                </a:solidFill>
                <a:latin typeface="ABC font"/>
              </a:rPr>
              <a:t>These words are spelt with ei. You can tell because the ei sounds a little like capital ‘A’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igh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ei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eig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Ve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Veil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reight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eig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neighbou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00720" y="2205000"/>
            <a:ext cx="26650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7d47d"/>
                </a:solidFill>
                <a:latin typeface="Arial"/>
              </a:rPr>
              <a:t>Now here comes a rule:</a:t>
            </a:r>
            <a:br>
              <a:rPr sz="3600"/>
            </a:br>
            <a:r>
              <a:rPr b="1" lang="en-GB" sz="3600" spc="-1" strike="noStrike">
                <a:solidFill>
                  <a:srgbClr val="f7d47d"/>
                </a:solidFill>
                <a:latin typeface="Arial"/>
              </a:rPr>
              <a:t>I before e </a:t>
            </a:r>
            <a:r>
              <a:rPr b="1" i="1" lang="en-GB" sz="3600" spc="-1" strike="noStrike">
                <a:solidFill>
                  <a:srgbClr val="f7d47d"/>
                </a:solidFill>
                <a:latin typeface="Arial"/>
              </a:rPr>
              <a:t>except</a:t>
            </a:r>
            <a:r>
              <a:rPr b="1" lang="en-GB" sz="3600" spc="-1" strike="noStrike">
                <a:solidFill>
                  <a:srgbClr val="f7d47d"/>
                </a:solidFill>
                <a:latin typeface="Arial"/>
              </a:rPr>
              <a:t> after c, if the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ei</a:t>
            </a:r>
            <a:r>
              <a:rPr b="1" lang="en-GB" sz="3600" spc="-1" strike="noStrike">
                <a:solidFill>
                  <a:srgbClr val="f7d47d"/>
                </a:solidFill>
                <a:latin typeface="Arial"/>
              </a:rPr>
              <a:t> rhymes with be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e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ecei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l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e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on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on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e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e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fu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But don’t be fooled some words break this rule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cience, glacier and ancien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5076720" y="1628640"/>
            <a:ext cx="13874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These ei words don’t follow a rule so you just have to </a:t>
            </a:r>
            <a:r>
              <a:rPr b="1" lang="en-GB" sz="3600" spc="-1" strike="noStrike" u="sng">
                <a:solidFill>
                  <a:srgbClr val="f7d47d"/>
                </a:solidFill>
                <a:uFillTx/>
                <a:latin typeface="Arial"/>
              </a:rPr>
              <a:t>learn them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prot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gh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or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g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over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g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4643280" y="1684440"/>
            <a:ext cx="208944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7d47d"/>
                </a:solidFill>
                <a:uFillTx/>
                <a:latin typeface="ABC font"/>
              </a:rPr>
              <a:t>Thes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BC font"/>
              </a:rPr>
              <a:t>ie</a:t>
            </a:r>
            <a:r>
              <a:rPr b="0" lang="en-GB" sz="3200" spc="-1" strike="noStrike" u="sng">
                <a:solidFill>
                  <a:srgbClr val="f7d47d"/>
                </a:solidFill>
                <a:uFillTx/>
                <a:latin typeface="ABC font"/>
              </a:rPr>
              <a:t> words are straight forward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el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el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el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Ch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Handkerch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G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G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Misch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Ach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es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Mantelp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P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sh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7d47d"/>
                </a:solidFill>
                <a:latin typeface="ABC font"/>
              </a:rPr>
              <a:t>Now wipe boards and pens at the ready? Scan the text and spot all the </a:t>
            </a: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ie/ei</a:t>
            </a:r>
            <a:r>
              <a:rPr b="0" lang="en-GB" sz="2400" spc="-1" strike="noStrike">
                <a:solidFill>
                  <a:srgbClr val="f7d47d"/>
                </a:solidFill>
                <a:latin typeface="ABC font"/>
              </a:rPr>
              <a:t> words you can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Brief Sie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Mrs Elizabeth Carver, niece of the Chief of Police, was besieged by wasps in her home yesterday. A ceiling fell down and knocked off an old mantelpiece. Hundreds of wasps flew ou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She shielded her face with a handkerchief and dialled 999. She gave a piercing shriek into the pho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Send the police. Believe me, these wasps will kill me if you don’t.”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The Chief of Police received the call and rushed to relieve he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7d47d"/>
                </a:solidFill>
                <a:uFillTx/>
                <a:latin typeface="Arial"/>
              </a:rPr>
              <a:t>Well how did you do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2f1311"/>
                </a:solidFill>
                <a:uFillTx/>
                <a:latin typeface="ABC font"/>
              </a:rPr>
              <a:t>There were 12 in al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Nie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Chie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besieg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Ceil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Mantelpie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Shield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Handkerchie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Pierc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Shrie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Believ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Receiv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Reliev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Well done if you got them all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4356000" y="1628640"/>
            <a:ext cx="290664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21:54:59Z</dcterms:created>
  <dc:creator>Jane Armstrong</dc:creator>
  <dc:description/>
  <dc:language>en-US</dc:language>
  <cp:lastModifiedBy>Jane Armstrong</cp:lastModifiedBy>
  <dcterms:modified xsi:type="dcterms:W3CDTF">2005-01-01T22:30:28Z</dcterms:modified>
  <cp:revision>1</cp:revision>
  <dc:subject/>
  <dc:title>ie and ei words</dc:title>
</cp:coreProperties>
</file>