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033-B3C6-4A77-B304-EA575D9A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B1BA-F156-42C7-886E-7D533AE4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4D7-0A45-4DB4-8AF7-F43D72A9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6DE-92BA-4C0C-8EEC-4F42B5FD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9CDA-3653-43BD-B90A-4E13ECFD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AFD5-61DB-43AF-9441-8502F9FA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C966-3B8A-4C25-A008-C3F51061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7DB9-8DC4-4DBA-B091-4E8E0F67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A7CD-0028-46C9-B61C-167DE3EE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98C5-810A-4787-973B-4EF4F07D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8D15-3888-4CA0-924C-5D0F679E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C6D6-B25C-4D7F-8A59-27F6B3AD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F3E6-1017-4D4B-81A0-E8F95744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3D98-8B41-49A9-B77C-58EF0099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169B-C18B-4DB1-BFDD-B408684E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63F6-D5C3-4F67-B729-DAE06C47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1E96-9473-4516-B086-1F47C54D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B48-A7BA-409D-B102-789428BE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9AF-6140-4943-8CE0-0590231B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EC3-0372-4AA8-A569-61B4525C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80E-B381-4F22-AEA7-C75ABEC4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809-A0E2-4763-9D50-3D590ABD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70EF-2AAC-4345-BC26-035F5CBE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D4C-7A0A-4065-AB15-0BEFCE34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8502-E40C-4482-9C84-B310F58E0A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0141-583F-4662-B17B-4EBCA8E359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cosyn.us/ecocity/Challenges/drought/9-drought.JPG&amp;imgrefurl=http://www.ecosyn.us/ecocity/Challenges/drought/&amp;h=238&amp;w=200&amp;sz=59&amp;tbnid=6nXMVObJFO8J:&amp;tbnh=103&amp;tbnw=87&amp;start=1&amp;prev=/images%3Fq%3Ddrought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adayinmylife.locotek.com/photos/thoughtful.jpg&amp;imgrefurl=http://adayinmylife.locotek.com/archives/000390.PHP&amp;h=428&amp;w=346&amp;sz=13&amp;tbnid=E_zB4C-AqX4J:&amp;tbnh=121&amp;tbnw=98&amp;start=38&amp;prev=/images%3Fq%3Dthoughtful%26start%3D20%26hl%3Den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cat.edu/~childres/dough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ABC font"/>
              </a:rPr>
              <a:t>The case of the grapheme --</a:t>
            </a:r>
            <a:r>
              <a:rPr b="0" lang="en-GB" sz="4600" spc="-1" strike="noStrike">
                <a:solidFill>
                  <a:srgbClr val="ff6600"/>
                </a:solidFill>
                <a:latin typeface="ABC font"/>
              </a:rPr>
              <a:t>ough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A letter string that has many phoneme sounds- let’s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BC font"/>
              </a:rPr>
              <a:t>First let’s see how many you can spot. Wipe boards and pens at the read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6267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BC font"/>
              </a:rPr>
              <a:t>Drought Throughout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No rain has fallen in England for the last eighteen weeks. There is not enough water for washing and cleaning, although through careful controls, drinking supplies remain. Still Asda is making a roaring trade in bottled water. Shoppers have even fought over bottles and bought as many as restrictions would all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armers cannot plough land because it is too dry and pig troughs have to be filled by hand. Life is decidedly rough for the farmers throughout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Thoughtless people are wasting water by allowing taps to drip. Neighbours are asked to remind each other of th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No foreign visitors may enter the country until the drought is o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1484280"/>
            <a:ext cx="1665360" cy="197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BC font"/>
              </a:rPr>
              <a:t>What phoneme sound does the grapheme –ough make in these word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Thought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Thought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F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1773360"/>
            <a:ext cx="180792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BC font"/>
              </a:rPr>
              <a:t>What phoneme sound does the grapheme –ough make in these word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48261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ccff"/>
                </a:solidFill>
                <a:latin typeface="ABC font"/>
              </a:rPr>
              <a:t>Althoug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ccff"/>
                </a:solidFill>
                <a:latin typeface="ABC font"/>
              </a:rPr>
              <a:t>Thoug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ccff"/>
                </a:solidFill>
                <a:latin typeface="ABC font"/>
              </a:rPr>
              <a:t>doug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2060640"/>
            <a:ext cx="13845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An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6666"/>
                </a:solidFill>
                <a:latin typeface="Arial"/>
              </a:rPr>
              <a:t>Drou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6666"/>
                </a:solidFill>
                <a:latin typeface="Arial"/>
              </a:rPr>
              <a:t>Ploug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6666"/>
                </a:solidFill>
                <a:latin typeface="Arial"/>
              </a:rPr>
              <a:t>boug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0" y="2036880"/>
            <a:ext cx="403236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And thes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Rou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ou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Cou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rou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28051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BC font"/>
              </a:rPr>
              <a:t>And finally what about thes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rou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BC font"/>
              </a:rPr>
              <a:t>Can you remember all 6 phoneme sounds that can be made with the grapheme oug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O as in capital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Ou as in </a:t>
            </a:r>
            <a:r>
              <a:rPr b="0" lang="en-GB" sz="3200" spc="-1" strike="noStrike">
                <a:solidFill>
                  <a:srgbClr val="ff6600"/>
                </a:solidFill>
                <a:latin typeface="ABC font"/>
              </a:rPr>
              <a:t>Ou</a:t>
            </a: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OO as in m</a:t>
            </a:r>
            <a:r>
              <a:rPr b="0" lang="en-GB" sz="3200" spc="-1" strike="noStrike">
                <a:solidFill>
                  <a:srgbClr val="ff6600"/>
                </a:solidFill>
                <a:latin typeface="ABC font"/>
              </a:rPr>
              <a:t>oo</a:t>
            </a: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Can you think of examples for each s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21:22:31Z</dcterms:created>
  <dc:creator>Jane Armstrong</dc:creator>
  <dc:description/>
  <dc:language>en-US</dc:language>
  <cp:lastModifiedBy>Jane Armstrong</cp:lastModifiedBy>
  <dcterms:modified xsi:type="dcterms:W3CDTF">2005-01-01T21:51:22Z</dcterms:modified>
  <cp:revision>1</cp:revision>
  <dc:subject/>
  <dc:title>The case of the grapheme --ough</dc:title>
</cp:coreProperties>
</file>