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6B2-4E94-41B2-A347-177A0260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F99-B7FC-4633-91E4-2100C350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BCC-AABE-4E4E-80AE-6DC28B93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7B6-FBF6-4B52-816D-D3FECFEC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4732-1874-4AD4-8869-8466536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D51-B464-4682-87A1-3F82C49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9082-5248-45AB-B2D1-B3477DD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0E78-A92B-41EC-BE87-A098A2D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5F6-47F0-48F2-AD26-6029C28E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D722-1D38-47D4-ACDF-EBF4677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66EE-3A96-4FD5-B572-6CE0B0D9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FC8-5B74-4D22-B502-B13FFBC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4A6-AF65-4CFC-A058-93E7EFA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EE0-23EF-4A6E-97CA-18C965F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0AF-36C8-41A6-BF67-9A1F275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ED5-5FA9-4778-BF82-028F4A4A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71BF-3ADC-4BAE-882D-0D1A010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928-050B-42C0-9E76-D3359D03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48C-D892-4AF4-B7AE-248D4B51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6C8-6213-4175-A8A8-EA897BAC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D4D-1BC2-4122-BBB6-3D3FAC0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E97-837B-44B2-822A-1445589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259-4D49-44D5-80F9-FF91A9F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DEB-F217-4423-887C-C023D1C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AC93-0C7C-4EC8-9371-D822CD4C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0AD6-B19B-44CD-8259-6F923C39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60948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time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 show is intended to assist with mental maths in learning tables.  Animation is set to move slides on every 5 seconds.  The first 12 slides are in order and the second 12 slides are j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z Phi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452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460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468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476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484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492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500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508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527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535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543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551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5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567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575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583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591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610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618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626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634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642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650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658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666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674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682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70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709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717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725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733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741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749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757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765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773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781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80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80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827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835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843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851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8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867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875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894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902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910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7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918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926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934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1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942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950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958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966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3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974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985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993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1009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1017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036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3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1044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1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1052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107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1079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1087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4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1095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1103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1111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1122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1138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1146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154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1162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173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0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1181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8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1189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1197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4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1205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1213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1221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8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1229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6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1237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1248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5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256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1264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1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1272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9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1280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7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1296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1304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1312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1320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1328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3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1350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1358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5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366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1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1382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1390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1398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1406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1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1422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44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17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248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256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275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283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291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299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307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342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350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358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366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385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409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417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425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433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7:02:33Z</dcterms:created>
  <dc:creator>Liz Philip</dc:creator>
  <dc:description/>
  <dc:language>en-US</dc:language>
  <cp:lastModifiedBy>Liz Philip</cp:lastModifiedBy>
  <dcterms:modified xsi:type="dcterms:W3CDTF">2001-02-03T20:45:44Z</dcterms:modified>
  <cp:revision>4</cp:revision>
  <dc:subject/>
  <dc:title>No Slide Title</dc:title>
</cp:coreProperties>
</file>