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2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0B5C-1B89-450B-8324-86273B3FA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unting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out the presentation click the left mouse button to move on.  After the final slide the presentation loops back to the first working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introduction as a whole class activity children can use this presentation individually for further pract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Read the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Count how many things are in the group that appears next and link to the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As further pictures appear count on from the number that has been reac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Check your answer with the one that app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Re-read the complete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Show same sum on fingers (if answer is less than 10!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onica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das@camelsdale.w-sussex.sch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BFD2-99DD-40D8-96EE-4405D2F1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F4F6-5A13-4850-A860-FA54CE01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47E8-A20B-41BF-BF01-94B1950B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0917-8E96-4CD5-BD9E-3EE3AA5D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6536-3B0C-40F4-8C3A-5039BFC2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8369-BF9B-4FC1-9277-00B05C0A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1682-377C-4EC3-ACE6-85A4B394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295A-28FD-4523-97E7-D5FF2C48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B5E1-76F2-4AAF-B1E5-776549CD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5CD-F881-496D-932B-564E64B3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2BC-56B2-4BFD-B646-36C64A79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E1A7-9222-47AB-88C6-C6F84BD1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C78C-B9BA-4E32-AAA3-5741A3422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.wmf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5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.wmf"/><Relationship Id="rId2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unting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266652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d by Veronica Carter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das YR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elsdale First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pavilion.co.uk/camelsdal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e notes attached to slide 2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133720" y="838080"/>
            <a:ext cx="4190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6 +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762120"/>
            <a:ext cx="2133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33520" y="2590920"/>
            <a:ext cx="1965240" cy="3657600"/>
            <a:chOff x="533520" y="2590920"/>
            <a:chExt cx="1965240" cy="3657600"/>
          </a:xfrm>
        </p:grpSpPr>
        <p:graphicFrame>
          <p:nvGraphicFramePr>
            <p:cNvPr id="204" name=""/>
            <p:cNvGraphicFramePr/>
            <p:nvPr/>
          </p:nvGraphicFramePr>
          <p:xfrm>
            <a:off x="533520" y="2590920"/>
            <a:ext cx="441360" cy="16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590920"/>
                      <a:ext cx="441360" cy="16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6" name=""/>
            <p:cNvGraphicFramePr/>
            <p:nvPr/>
          </p:nvGraphicFramePr>
          <p:xfrm>
            <a:off x="1295280" y="2590920"/>
            <a:ext cx="441360" cy="1676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95280" y="2590920"/>
                      <a:ext cx="441360" cy="16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8" name=""/>
            <p:cNvGraphicFramePr/>
            <p:nvPr/>
          </p:nvGraphicFramePr>
          <p:xfrm>
            <a:off x="2057400" y="2590920"/>
            <a:ext cx="441360" cy="1676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57400" y="2590920"/>
                      <a:ext cx="441360" cy="16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0" name=""/>
            <p:cNvGraphicFramePr/>
            <p:nvPr/>
          </p:nvGraphicFramePr>
          <p:xfrm>
            <a:off x="533520" y="4572000"/>
            <a:ext cx="441360" cy="1676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3520" y="4572000"/>
                      <a:ext cx="44136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2" name=""/>
            <p:cNvGraphicFramePr/>
            <p:nvPr/>
          </p:nvGraphicFramePr>
          <p:xfrm>
            <a:off x="1295280" y="4572000"/>
            <a:ext cx="441360" cy="1676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295280" y="4572000"/>
                      <a:ext cx="44136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4" name=""/>
            <p:cNvGraphicFramePr/>
            <p:nvPr/>
          </p:nvGraphicFramePr>
          <p:xfrm>
            <a:off x="2057400" y="4572000"/>
            <a:ext cx="441360" cy="1676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057400" y="4572000"/>
                      <a:ext cx="44136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16" name=""/>
          <p:cNvGraphicFramePr/>
          <p:nvPr/>
        </p:nvGraphicFramePr>
        <p:xfrm>
          <a:off x="4419720" y="4648320"/>
          <a:ext cx="441360" cy="1676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19720" y="4648320"/>
                    <a:ext cx="4413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5105520" y="4648320"/>
          <a:ext cx="441360" cy="1676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05520" y="4648320"/>
                    <a:ext cx="4413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419720" y="2590920"/>
          <a:ext cx="441360" cy="1676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590920"/>
                    <a:ext cx="4413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5105520" y="2590920"/>
          <a:ext cx="441360" cy="1676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05520" y="2590920"/>
                    <a:ext cx="4413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752480" y="762120"/>
            <a:ext cx="5181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9 +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91320" y="762120"/>
            <a:ext cx="2895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28600" y="2590920"/>
            <a:ext cx="3095640" cy="3254400"/>
            <a:chOff x="228600" y="2590920"/>
            <a:chExt cx="3095640" cy="3254400"/>
          </a:xfrm>
        </p:grpSpPr>
        <p:graphicFrame>
          <p:nvGraphicFramePr>
            <p:cNvPr id="227" name=""/>
            <p:cNvGraphicFramePr/>
            <p:nvPr/>
          </p:nvGraphicFramePr>
          <p:xfrm>
            <a:off x="1295280" y="2590920"/>
            <a:ext cx="962280" cy="968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2590920"/>
                      <a:ext cx="96228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" name=""/>
            <p:cNvGraphicFramePr/>
            <p:nvPr/>
          </p:nvGraphicFramePr>
          <p:xfrm>
            <a:off x="2362320" y="2590920"/>
            <a:ext cx="961920" cy="968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62320" y="2590920"/>
                      <a:ext cx="96192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1" name=""/>
            <p:cNvGraphicFramePr/>
            <p:nvPr/>
          </p:nvGraphicFramePr>
          <p:xfrm>
            <a:off x="228600" y="2590920"/>
            <a:ext cx="961920" cy="968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2590920"/>
                      <a:ext cx="96192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3" name=""/>
            <p:cNvGraphicFramePr/>
            <p:nvPr/>
          </p:nvGraphicFramePr>
          <p:xfrm>
            <a:off x="2362320" y="3733920"/>
            <a:ext cx="961920" cy="968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362320" y="3733920"/>
                      <a:ext cx="96192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5" name=""/>
            <p:cNvGraphicFramePr/>
            <p:nvPr/>
          </p:nvGraphicFramePr>
          <p:xfrm>
            <a:off x="1295280" y="3733920"/>
            <a:ext cx="962280" cy="968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295280" y="3733920"/>
                      <a:ext cx="96228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7" name=""/>
            <p:cNvGraphicFramePr/>
            <p:nvPr/>
          </p:nvGraphicFramePr>
          <p:xfrm>
            <a:off x="228600" y="3733920"/>
            <a:ext cx="961920" cy="968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28600" y="3733920"/>
                      <a:ext cx="96192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9" name=""/>
            <p:cNvGraphicFramePr/>
            <p:nvPr/>
          </p:nvGraphicFramePr>
          <p:xfrm>
            <a:off x="1295280" y="4876920"/>
            <a:ext cx="962280" cy="968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295280" y="4876920"/>
                      <a:ext cx="96228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1" name=""/>
            <p:cNvGraphicFramePr/>
            <p:nvPr/>
          </p:nvGraphicFramePr>
          <p:xfrm>
            <a:off x="228600" y="4876920"/>
            <a:ext cx="961920" cy="968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4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28600" y="4876920"/>
                      <a:ext cx="96192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3" name=""/>
            <p:cNvGraphicFramePr/>
            <p:nvPr/>
          </p:nvGraphicFramePr>
          <p:xfrm>
            <a:off x="2362320" y="4876920"/>
            <a:ext cx="961920" cy="9684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4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362320" y="4876920"/>
                      <a:ext cx="96192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45" name=""/>
          <p:cNvGraphicFramePr/>
          <p:nvPr/>
        </p:nvGraphicFramePr>
        <p:xfrm>
          <a:off x="3886200" y="4876920"/>
          <a:ext cx="961920" cy="968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86200" y="4876920"/>
                    <a:ext cx="9619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3886200" y="3733920"/>
          <a:ext cx="961920" cy="968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886200" y="3733920"/>
                    <a:ext cx="9619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3886200" y="2590920"/>
          <a:ext cx="961920" cy="968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886200" y="2590920"/>
                    <a:ext cx="9619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05120" y="838080"/>
            <a:ext cx="6629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5 + 2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914400"/>
            <a:ext cx="990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57200" y="3200400"/>
            <a:ext cx="2503440" cy="2162160"/>
            <a:chOff x="457200" y="3200400"/>
            <a:chExt cx="2503440" cy="2162160"/>
          </a:xfrm>
        </p:grpSpPr>
        <p:graphicFrame>
          <p:nvGraphicFramePr>
            <p:cNvPr id="53" name=""/>
            <p:cNvGraphicFramePr/>
            <p:nvPr/>
          </p:nvGraphicFramePr>
          <p:xfrm>
            <a:off x="533520" y="3200400"/>
            <a:ext cx="1055520" cy="56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3200400"/>
                      <a:ext cx="105552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" name=""/>
            <p:cNvGraphicFramePr/>
            <p:nvPr/>
          </p:nvGraphicFramePr>
          <p:xfrm>
            <a:off x="1066680" y="4038480"/>
            <a:ext cx="1055880" cy="561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4038480"/>
                      <a:ext cx="105588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" name=""/>
            <p:cNvGraphicFramePr/>
            <p:nvPr/>
          </p:nvGraphicFramePr>
          <p:xfrm>
            <a:off x="457200" y="4800600"/>
            <a:ext cx="1055520" cy="561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" y="4800600"/>
                      <a:ext cx="105552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" name=""/>
            <p:cNvGraphicFramePr/>
            <p:nvPr/>
          </p:nvGraphicFramePr>
          <p:xfrm>
            <a:off x="1905120" y="4800600"/>
            <a:ext cx="1055520" cy="561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05120" y="4800600"/>
                      <a:ext cx="105552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" name=""/>
            <p:cNvGraphicFramePr/>
            <p:nvPr/>
          </p:nvGraphicFramePr>
          <p:xfrm>
            <a:off x="1828800" y="3200400"/>
            <a:ext cx="1055520" cy="56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828800" y="3200400"/>
                      <a:ext cx="105552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3" name=""/>
          <p:cNvGraphicFramePr/>
          <p:nvPr/>
        </p:nvGraphicFramePr>
        <p:xfrm>
          <a:off x="3809880" y="4114800"/>
          <a:ext cx="1055880" cy="56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9880" y="4114800"/>
                    <a:ext cx="10558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 rot="10800000">
          <a:off x="3809880" y="3276360"/>
          <a:ext cx="105588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 rot="10800000">
                    <a:off x="3809880" y="3276360"/>
                    <a:ext cx="1055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05120" y="990720"/>
            <a:ext cx="5105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8 + 1 =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914400"/>
            <a:ext cx="1371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04920" y="3429000"/>
            <a:ext cx="2816280" cy="2416320"/>
            <a:chOff x="304920" y="3429000"/>
            <a:chExt cx="2816280" cy="2416320"/>
          </a:xfrm>
        </p:grpSpPr>
        <p:graphicFrame>
          <p:nvGraphicFramePr>
            <p:cNvPr id="70" name=""/>
            <p:cNvGraphicFramePr/>
            <p:nvPr/>
          </p:nvGraphicFramePr>
          <p:xfrm>
            <a:off x="304920" y="3429000"/>
            <a:ext cx="911160" cy="73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3429000"/>
                      <a:ext cx="91116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380880" y="4191120"/>
            <a:ext cx="911520" cy="739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4191120"/>
                      <a:ext cx="9115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457200" y="5029200"/>
            <a:ext cx="911160" cy="73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" y="5029200"/>
                      <a:ext cx="91116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1371600" y="4496040"/>
            <a:ext cx="911160" cy="739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71600" y="4496040"/>
                      <a:ext cx="91116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1295280" y="3733920"/>
            <a:ext cx="911520" cy="739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295280" y="3733920"/>
                      <a:ext cx="9115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2209680" y="4343400"/>
            <a:ext cx="911520" cy="739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209680" y="4343400"/>
                      <a:ext cx="9115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2209680" y="5105520"/>
            <a:ext cx="911520" cy="7398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209680" y="5105520"/>
                      <a:ext cx="9115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2057400" y="3505320"/>
            <a:ext cx="911160" cy="7398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057400" y="3505320"/>
                      <a:ext cx="91116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6" name=""/>
          <p:cNvGraphicFramePr/>
          <p:nvPr/>
        </p:nvGraphicFramePr>
        <p:xfrm>
          <a:off x="3962520" y="3657600"/>
          <a:ext cx="911160" cy="739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962520" y="3657600"/>
                    <a:ext cx="91116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33720" y="914400"/>
            <a:ext cx="4114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5 + 3 =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914400"/>
            <a:ext cx="533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447920" y="2819520"/>
            <a:ext cx="1371600" cy="2998800"/>
            <a:chOff x="1447920" y="2819520"/>
            <a:chExt cx="1371600" cy="2998800"/>
          </a:xfrm>
        </p:grpSpPr>
        <p:graphicFrame>
          <p:nvGraphicFramePr>
            <p:cNvPr id="91" name=""/>
            <p:cNvGraphicFramePr/>
            <p:nvPr/>
          </p:nvGraphicFramePr>
          <p:xfrm>
            <a:off x="1523880" y="2819520"/>
            <a:ext cx="1295640" cy="40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2819520"/>
                      <a:ext cx="129564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"/>
            <p:cNvGraphicFramePr/>
            <p:nvPr/>
          </p:nvGraphicFramePr>
          <p:xfrm>
            <a:off x="1523880" y="3505320"/>
            <a:ext cx="1295640" cy="407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3880" y="3505320"/>
                      <a:ext cx="129564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" name=""/>
            <p:cNvGraphicFramePr/>
            <p:nvPr/>
          </p:nvGraphicFramePr>
          <p:xfrm>
            <a:off x="1523880" y="4114800"/>
            <a:ext cx="1295640" cy="407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3880" y="4114800"/>
                      <a:ext cx="129564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1523880" y="4724280"/>
            <a:ext cx="1295640" cy="408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23880" y="4724280"/>
                      <a:ext cx="1295640" cy="40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1447920" y="5410080"/>
            <a:ext cx="1295280" cy="408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447920" y="5410080"/>
                      <a:ext cx="1295280" cy="40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1" name=""/>
          <p:cNvGraphicFramePr/>
          <p:nvPr/>
        </p:nvGraphicFramePr>
        <p:xfrm>
          <a:off x="4114800" y="4191120"/>
          <a:ext cx="1295280" cy="407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14800" y="4191120"/>
                    <a:ext cx="12952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114800" y="3581280"/>
          <a:ext cx="1295280" cy="408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14800" y="3581280"/>
                    <a:ext cx="129528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114800" y="3048120"/>
          <a:ext cx="1295280" cy="407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14800" y="3048120"/>
                    <a:ext cx="12952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0200" y="990720"/>
            <a:ext cx="426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4 + 2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990720"/>
            <a:ext cx="25905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85800" y="2971800"/>
            <a:ext cx="1600200" cy="3666960"/>
            <a:chOff x="685800" y="2971800"/>
            <a:chExt cx="1600200" cy="3666960"/>
          </a:xfrm>
        </p:grpSpPr>
        <p:graphicFrame>
          <p:nvGraphicFramePr>
            <p:cNvPr id="110" name=""/>
            <p:cNvGraphicFramePr/>
            <p:nvPr/>
          </p:nvGraphicFramePr>
          <p:xfrm>
            <a:off x="762120" y="2971800"/>
            <a:ext cx="1523880" cy="1000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2971800"/>
                      <a:ext cx="152388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762120" y="3809880"/>
            <a:ext cx="1523880" cy="1000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2120" y="3809880"/>
                      <a:ext cx="152388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685800" y="4648320"/>
            <a:ext cx="1523880" cy="1000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" y="4648320"/>
                      <a:ext cx="152388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" name=""/>
            <p:cNvGraphicFramePr/>
            <p:nvPr/>
          </p:nvGraphicFramePr>
          <p:xfrm>
            <a:off x="762120" y="5638680"/>
            <a:ext cx="1523880" cy="1000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2120" y="5638680"/>
                      <a:ext cx="152388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8" name=""/>
          <p:cNvGraphicFramePr/>
          <p:nvPr/>
        </p:nvGraphicFramePr>
        <p:xfrm>
          <a:off x="3352680" y="4191120"/>
          <a:ext cx="1524240" cy="1000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52680" y="4191120"/>
                    <a:ext cx="15242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352680" y="3124080"/>
          <a:ext cx="1524240" cy="1000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3124080"/>
                    <a:ext cx="15242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52480" y="91440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9 + 2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914400"/>
            <a:ext cx="25905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838080" y="2971800"/>
            <a:ext cx="2210040" cy="3389400"/>
            <a:chOff x="838080" y="2971800"/>
            <a:chExt cx="2210040" cy="338940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838080" y="2971800"/>
              <a:ext cx="9907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838080" y="3657600"/>
              <a:ext cx="9907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838080" y="4343400"/>
              <a:ext cx="9907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4"/>
            <a:stretch/>
          </p:blipFill>
          <p:spPr>
            <a:xfrm>
              <a:off x="838080" y="5105520"/>
              <a:ext cx="9907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5"/>
            <a:stretch/>
          </p:blipFill>
          <p:spPr>
            <a:xfrm>
              <a:off x="1447920" y="5791320"/>
              <a:ext cx="990360" cy="5698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30" name=""/>
            <p:cNvGraphicFramePr/>
            <p:nvPr/>
          </p:nvGraphicFramePr>
          <p:xfrm>
            <a:off x="2057400" y="5105520"/>
            <a:ext cx="990720" cy="569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057400" y="5105520"/>
                      <a:ext cx="990720" cy="5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2" name="" descr=""/>
            <p:cNvPicPr/>
            <p:nvPr/>
          </p:nvPicPr>
          <p:blipFill>
            <a:blip r:embed="rId8"/>
            <a:stretch/>
          </p:blipFill>
          <p:spPr>
            <a:xfrm>
              <a:off x="2057400" y="4343400"/>
              <a:ext cx="9907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9"/>
            <a:stretch/>
          </p:blipFill>
          <p:spPr>
            <a:xfrm>
              <a:off x="2057400" y="3657600"/>
              <a:ext cx="9907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10"/>
            <a:stretch/>
          </p:blipFill>
          <p:spPr>
            <a:xfrm>
              <a:off x="2057400" y="2971800"/>
              <a:ext cx="990720" cy="5698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35" name=""/>
          <p:cNvGraphicFramePr/>
          <p:nvPr/>
        </p:nvGraphicFramePr>
        <p:xfrm>
          <a:off x="4038480" y="4648320"/>
          <a:ext cx="990720" cy="569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38480" y="4648320"/>
                    <a:ext cx="9907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038480" y="3733920"/>
          <a:ext cx="990720" cy="569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38480" y="3733920"/>
                    <a:ext cx="9907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981080" y="914400"/>
            <a:ext cx="487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6 +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838080"/>
            <a:ext cx="1524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0" y="3048120"/>
            <a:ext cx="2743200" cy="3500280"/>
            <a:chOff x="0" y="3048120"/>
            <a:chExt cx="2743200" cy="3500280"/>
          </a:xfrm>
        </p:grpSpPr>
        <p:graphicFrame>
          <p:nvGraphicFramePr>
            <p:cNvPr id="142" name=""/>
            <p:cNvGraphicFramePr/>
            <p:nvPr/>
          </p:nvGraphicFramePr>
          <p:xfrm>
            <a:off x="0" y="3048120"/>
            <a:ext cx="1371600" cy="1137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3048120"/>
                      <a:ext cx="1371600" cy="113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1371600" y="3048120"/>
              <a:ext cx="1371600" cy="11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4"/>
            <a:stretch/>
          </p:blipFill>
          <p:spPr>
            <a:xfrm>
              <a:off x="0" y="4267080"/>
              <a:ext cx="137160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5"/>
            <a:stretch/>
          </p:blipFill>
          <p:spPr>
            <a:xfrm>
              <a:off x="1371600" y="4267080"/>
              <a:ext cx="137160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6"/>
            <a:stretch/>
          </p:blipFill>
          <p:spPr>
            <a:xfrm>
              <a:off x="0" y="5410080"/>
              <a:ext cx="137160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7"/>
            <a:stretch/>
          </p:blipFill>
          <p:spPr>
            <a:xfrm>
              <a:off x="1371600" y="5410080"/>
              <a:ext cx="1371600" cy="1138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49" name=""/>
          <p:cNvGraphicFramePr/>
          <p:nvPr/>
        </p:nvGraphicFramePr>
        <p:xfrm>
          <a:off x="4114800" y="5410080"/>
          <a:ext cx="1371600" cy="1138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14800" y="5410080"/>
                    <a:ext cx="13716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038480" y="4267080"/>
          <a:ext cx="1371600" cy="1138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38480" y="4267080"/>
                    <a:ext cx="13716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038480" y="3124080"/>
          <a:ext cx="1371600" cy="1138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38480" y="3124080"/>
                    <a:ext cx="13716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905120" y="762120"/>
            <a:ext cx="5181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8 +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91320" y="685800"/>
            <a:ext cx="2209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191120" y="5562720"/>
          <a:ext cx="105552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5562720"/>
                    <a:ext cx="10555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191120" y="4419720"/>
          <a:ext cx="105552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4419720"/>
                    <a:ext cx="10555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4191120" y="3276720"/>
          <a:ext cx="105552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3276720"/>
                    <a:ext cx="10555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114800" y="2133720"/>
          <a:ext cx="105552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2133720"/>
                    <a:ext cx="10555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5" name=""/>
          <p:cNvGrpSpPr/>
          <p:nvPr/>
        </p:nvGrpSpPr>
        <p:grpSpPr>
          <a:xfrm>
            <a:off x="685800" y="2133720"/>
            <a:ext cx="2274840" cy="4495680"/>
            <a:chOff x="685800" y="2133720"/>
            <a:chExt cx="2274840" cy="4495680"/>
          </a:xfrm>
        </p:grpSpPr>
        <p:graphicFrame>
          <p:nvGraphicFramePr>
            <p:cNvPr id="166" name=""/>
            <p:cNvGraphicFramePr/>
            <p:nvPr/>
          </p:nvGraphicFramePr>
          <p:xfrm>
            <a:off x="1828800" y="2133720"/>
            <a:ext cx="1055520" cy="1066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828800" y="2133720"/>
                      <a:ext cx="1055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"/>
            <p:cNvGraphicFramePr/>
            <p:nvPr/>
          </p:nvGraphicFramePr>
          <p:xfrm>
            <a:off x="685800" y="3276720"/>
            <a:ext cx="1055520" cy="1066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5800" y="3276720"/>
                      <a:ext cx="1055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" name=""/>
            <p:cNvGraphicFramePr/>
            <p:nvPr/>
          </p:nvGraphicFramePr>
          <p:xfrm>
            <a:off x="1828800" y="3276720"/>
            <a:ext cx="1055520" cy="1066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828800" y="3276720"/>
                      <a:ext cx="1055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" name=""/>
            <p:cNvGraphicFramePr/>
            <p:nvPr/>
          </p:nvGraphicFramePr>
          <p:xfrm>
            <a:off x="685800" y="4419720"/>
            <a:ext cx="1055520" cy="1066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85800" y="4419720"/>
                      <a:ext cx="1055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4" name=""/>
            <p:cNvGraphicFramePr/>
            <p:nvPr/>
          </p:nvGraphicFramePr>
          <p:xfrm>
            <a:off x="1828800" y="4419720"/>
            <a:ext cx="1055520" cy="10666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828800" y="4419720"/>
                      <a:ext cx="1055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6" name=""/>
            <p:cNvGraphicFramePr/>
            <p:nvPr/>
          </p:nvGraphicFramePr>
          <p:xfrm>
            <a:off x="685800" y="5562720"/>
            <a:ext cx="1055520" cy="10666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85800" y="5562720"/>
                      <a:ext cx="1055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8" name=""/>
            <p:cNvGraphicFramePr/>
            <p:nvPr/>
          </p:nvGraphicFramePr>
          <p:xfrm>
            <a:off x="1905120" y="5562720"/>
            <a:ext cx="1055520" cy="10666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905120" y="5562720"/>
                      <a:ext cx="1055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0" name=""/>
            <p:cNvGraphicFramePr/>
            <p:nvPr/>
          </p:nvGraphicFramePr>
          <p:xfrm>
            <a:off x="685800" y="2133720"/>
            <a:ext cx="1055520" cy="10666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85800" y="2133720"/>
                      <a:ext cx="1055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981080" y="914400"/>
            <a:ext cx="4114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7 +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5880" y="914400"/>
            <a:ext cx="1828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04920" y="2666880"/>
            <a:ext cx="2666880" cy="3897360"/>
            <a:chOff x="304920" y="2666880"/>
            <a:chExt cx="2666880" cy="389736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304920" y="2666880"/>
              <a:ext cx="114300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1752480" y="2666880"/>
              <a:ext cx="114300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3"/>
            <a:stretch/>
          </p:blipFill>
          <p:spPr>
            <a:xfrm>
              <a:off x="1828800" y="3657600"/>
              <a:ext cx="114300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4"/>
            <a:stretch/>
          </p:blipFill>
          <p:spPr>
            <a:xfrm>
              <a:off x="304920" y="3657600"/>
              <a:ext cx="114300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5"/>
            <a:stretch/>
          </p:blipFill>
          <p:spPr>
            <a:xfrm>
              <a:off x="1828800" y="4648320"/>
              <a:ext cx="1143000" cy="9255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90" name=""/>
            <p:cNvGraphicFramePr/>
            <p:nvPr/>
          </p:nvGraphicFramePr>
          <p:xfrm>
            <a:off x="1143000" y="5638680"/>
            <a:ext cx="1143000" cy="925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143000" y="5638680"/>
                      <a:ext cx="1143000" cy="92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92" name="" descr=""/>
            <p:cNvPicPr/>
            <p:nvPr/>
          </p:nvPicPr>
          <p:blipFill>
            <a:blip r:embed="rId8"/>
            <a:stretch/>
          </p:blipFill>
          <p:spPr>
            <a:xfrm>
              <a:off x="380880" y="4648320"/>
              <a:ext cx="1143000" cy="9255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93" name=""/>
          <p:cNvGraphicFramePr/>
          <p:nvPr/>
        </p:nvGraphicFramePr>
        <p:xfrm>
          <a:off x="4038480" y="5715000"/>
          <a:ext cx="1143000" cy="925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38480" y="5715000"/>
                    <a:ext cx="1143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038480" y="4724280"/>
          <a:ext cx="1143000" cy="925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38480" y="4724280"/>
                    <a:ext cx="1143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962520" y="3733920"/>
          <a:ext cx="1143000" cy="925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62520" y="3733920"/>
                    <a:ext cx="1143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3962520" y="2819520"/>
          <a:ext cx="1143000" cy="925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962520" y="2819520"/>
                    <a:ext cx="1143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8T19:48:12Z</dcterms:created>
  <dc:creator>Veronica</dc:creator>
  <dc:description/>
  <dc:language>en-US</dc:language>
  <cp:lastModifiedBy>Veronica</cp:lastModifiedBy>
  <dcterms:modified xsi:type="dcterms:W3CDTF">2001-02-17T11:32:53Z</dcterms:modified>
  <cp:revision>20</cp:revision>
  <dc:subject/>
  <dc:title>No Slide Title</dc:title>
</cp:coreProperties>
</file>