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8E8-E17F-47F2-AD42-30A1DA2C0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415-4376-463C-B07B-4068B5A81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7CF-1BDE-4F66-B787-65F4A4B2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BC0E-C24E-4607-9297-8DC4BD2F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ACFC-3C3B-451B-B7A8-F7BAB1F3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A0A5-FEB8-47A3-A79B-B63A31D6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E82A-E0F2-4A3B-A268-721A4842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3A02-4463-46D2-BADE-EF5466B6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0C76-EF28-4192-B395-85863FA9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7D52-8DAD-489C-B959-24FE9471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3944-3E7B-4647-B525-91F823F0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7ECB-CE4B-4488-8D3E-5E7EB0C5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9F8B-9CEC-48D5-AB07-A4DE475F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FDF6-E986-4839-8034-BB44CD17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6CB5-216A-4E07-B5B1-BB49F5FE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28C6-3E2A-435E-81BE-C2824452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30D4-7C70-4A7B-9D30-AAB797656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2A81-C305-4CB6-A825-9B9F8FAF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E8B-E6D3-4ED1-9134-6C256C8F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4AF1-12D3-4DD2-9804-C9557286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3A9-7F17-4886-A8BE-0D06F955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6D10-5580-4427-835E-11E46D96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A9C-2B39-4002-9513-6AA19061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3532-516A-4E28-A60D-36266BEB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4957-7B6E-4B9D-80B4-BB7C6BC3E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0750-A8E5-43F0-A1AD-2272D7CD15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62120" y="3352680"/>
            <a:ext cx="761976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33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aths Bridging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33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33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3333"/>
                    </a:gs>
                    <a:gs pos="100000">
                      <a:srgbClr val="ccec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Unit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3333"/>
                  </a:gs>
                  <a:gs pos="100000">
                    <a:srgbClr val="ccec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2" name="algebra_md_clr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3962520" cy="2311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867280" y="6583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oanne Smithies   Our Lady &amp; St. Gerards RC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0880" y="3049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nction   Machin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2286000"/>
            <a:ext cx="1066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96080" y="2286000"/>
            <a:ext cx="114300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3352680"/>
            <a:ext cx="1905120" cy="1676520"/>
          </a:xfrm>
          <a:custGeom>
            <a:avLst/>
            <a:gdLst>
              <a:gd name="textAreaLeft" fmla="*/ 197280 w 1905120"/>
              <a:gd name="textAreaRight" fmla="*/ 1707840 w 1905120"/>
              <a:gd name="textAreaTop" fmla="*/ 197280 h 1676520"/>
              <a:gd name="textAreaBottom" fmla="*/ 1479240 h 1676520"/>
            </a:gdLst>
            <a:ahLst/>
            <a:rect l="textAreaLeft" t="textAreaTop" r="textAreaRight" b="textAreaBottom"/>
            <a:pathLst>
              <a:path w="2454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945" y="21600"/>
                </a:lnTo>
                <a:arcTo wR="3600" hR="3600" stAng="10800000" swAng="5400000"/>
                <a:lnTo>
                  <a:pt x="2454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380988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80988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ubway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16765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ubway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438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4114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800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9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5486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200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35812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+9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2514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38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0120" y="4724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96080" y="5486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3352680"/>
            <a:ext cx="1905120" cy="1676520"/>
          </a:xfrm>
          <a:custGeom>
            <a:avLst/>
            <a:gdLst>
              <a:gd name="textAreaLeft" fmla="*/ 197280 w 1905120"/>
              <a:gd name="textAreaRight" fmla="*/ 1707840 w 1905120"/>
              <a:gd name="textAreaTop" fmla="*/ 197280 h 1676520"/>
              <a:gd name="textAreaBottom" fmla="*/ 1479240 h 1676520"/>
            </a:gdLst>
            <a:ahLst/>
            <a:rect l="textAreaLeft" t="textAreaTop" r="textAreaRight" b="textAreaBottom"/>
            <a:pathLst>
              <a:path w="2454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945" y="21600"/>
                </a:lnTo>
                <a:arcTo wR="3600" hR="3600" stAng="10800000" swAng="5400000"/>
                <a:lnTo>
                  <a:pt x="2454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38862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35812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Arial Alternative"/>
                <a:ea typeface="Arial Alternative"/>
              </a:rPr>
              <a:t></a:t>
            </a: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3200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0880" y="3049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nction   Machin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86000"/>
            <a:ext cx="1066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6080" y="2286000"/>
            <a:ext cx="114300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3352680"/>
            <a:ext cx="1905120" cy="1676520"/>
          </a:xfrm>
          <a:custGeom>
            <a:avLst/>
            <a:gdLst>
              <a:gd name="textAreaLeft" fmla="*/ 197280 w 1905120"/>
              <a:gd name="textAreaRight" fmla="*/ 1707840 w 1905120"/>
              <a:gd name="textAreaTop" fmla="*/ 197280 h 1676520"/>
              <a:gd name="textAreaBottom" fmla="*/ 1479240 h 1676520"/>
            </a:gdLst>
            <a:ahLst/>
            <a:rect l="textAreaLeft" t="textAreaTop" r="textAreaRight" b="textAreaBottom"/>
            <a:pathLst>
              <a:path w="2454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945" y="21600"/>
                </a:lnTo>
                <a:arcTo wR="3600" hR="3600" stAng="10800000" swAng="5400000"/>
                <a:lnTo>
                  <a:pt x="2454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380988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380988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600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ubway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1600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ubway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2438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4114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4800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5486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3200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35812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-6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2514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4038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4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4724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96080" y="5486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3352680"/>
            <a:ext cx="1905120" cy="1676520"/>
          </a:xfrm>
          <a:custGeom>
            <a:avLst/>
            <a:gdLst>
              <a:gd name="textAreaLeft" fmla="*/ 197280 w 1905120"/>
              <a:gd name="textAreaRight" fmla="*/ 1707840 w 1905120"/>
              <a:gd name="textAreaTop" fmla="*/ 197280 h 1676520"/>
              <a:gd name="textAreaBottom" fmla="*/ 1479240 h 1676520"/>
            </a:gdLst>
            <a:ahLst/>
            <a:rect l="textAreaLeft" t="textAreaTop" r="textAreaRight" b="textAreaBottom"/>
            <a:pathLst>
              <a:path w="2454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945" y="21600"/>
                </a:lnTo>
                <a:arcTo wR="3600" hR="3600" stAng="10800000" swAng="5400000"/>
                <a:lnTo>
                  <a:pt x="2454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8862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35812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x3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3200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4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80880" y="3049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nction   Machin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286000"/>
            <a:ext cx="1066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6080" y="2286000"/>
            <a:ext cx="114300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3352680"/>
            <a:ext cx="1905120" cy="1676520"/>
          </a:xfrm>
          <a:custGeom>
            <a:avLst/>
            <a:gdLst>
              <a:gd name="textAreaLeft" fmla="*/ 197280 w 1905120"/>
              <a:gd name="textAreaRight" fmla="*/ 1707840 w 1905120"/>
              <a:gd name="textAreaTop" fmla="*/ 197280 h 1676520"/>
              <a:gd name="textAreaBottom" fmla="*/ 1479240 h 1676520"/>
            </a:gdLst>
            <a:ahLst/>
            <a:rect l="textAreaLeft" t="textAreaTop" r="textAreaRight" b="textAreaBottom"/>
            <a:pathLst>
              <a:path w="2454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945" y="21600"/>
                </a:lnTo>
                <a:arcTo wR="3600" hR="3600" stAng="10800000" swAng="5400000"/>
                <a:lnTo>
                  <a:pt x="2454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380988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0" y="380988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6002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ubway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1676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ubway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2438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4114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6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4800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5486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3200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4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35812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+6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2514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4038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6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0120" y="4724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96080" y="5486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3352680"/>
            <a:ext cx="1905120" cy="1676520"/>
          </a:xfrm>
          <a:custGeom>
            <a:avLst/>
            <a:gdLst>
              <a:gd name="textAreaLeft" fmla="*/ 197280 w 1905120"/>
              <a:gd name="textAreaRight" fmla="*/ 1707840 w 1905120"/>
              <a:gd name="textAreaTop" fmla="*/ 197280 h 1676520"/>
              <a:gd name="textAreaBottom" fmla="*/ 1479240 h 1676520"/>
            </a:gdLst>
            <a:ahLst/>
            <a:rect l="textAreaLeft" t="textAreaTop" r="textAreaRight" b="textAreaBottom"/>
            <a:pathLst>
              <a:path w="2454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945" y="21600"/>
                </a:lnTo>
                <a:arcTo wR="3600" hR="3600" stAng="10800000" swAng="5400000"/>
                <a:lnTo>
                  <a:pt x="2454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38862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35812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-3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3200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0880" y="3049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nction   Machin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2286000"/>
            <a:ext cx="1066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96080" y="2286000"/>
            <a:ext cx="114300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3352680"/>
            <a:ext cx="1905120" cy="1676520"/>
          </a:xfrm>
          <a:custGeom>
            <a:avLst/>
            <a:gdLst>
              <a:gd name="textAreaLeft" fmla="*/ 197280 w 1905120"/>
              <a:gd name="textAreaRight" fmla="*/ 1707840 w 1905120"/>
              <a:gd name="textAreaTop" fmla="*/ 197280 h 1676520"/>
              <a:gd name="textAreaBottom" fmla="*/ 1479240 h 1676520"/>
            </a:gdLst>
            <a:ahLst/>
            <a:rect l="textAreaLeft" t="textAreaTop" r="textAreaRight" b="textAreaBottom"/>
            <a:pathLst>
              <a:path w="2454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945" y="21600"/>
                </a:lnTo>
                <a:arcTo wR="3600" hR="3600" stAng="10800000" swAng="5400000"/>
                <a:lnTo>
                  <a:pt x="2454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380988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380988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16002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ubway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1676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ubway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4920" y="2438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4114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4800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86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200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35812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x4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96080" y="2514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8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96080" y="4038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8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0120" y="4724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5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96080" y="5486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3352680"/>
            <a:ext cx="1905120" cy="1676520"/>
          </a:xfrm>
          <a:custGeom>
            <a:avLst/>
            <a:gdLst>
              <a:gd name="textAreaLeft" fmla="*/ 197280 w 1905120"/>
              <a:gd name="textAreaRight" fmla="*/ 1707840 w 1905120"/>
              <a:gd name="textAreaTop" fmla="*/ 197280 h 1676520"/>
              <a:gd name="textAreaBottom" fmla="*/ 1479240 h 1676520"/>
            </a:gdLst>
            <a:ahLst/>
            <a:rect l="textAreaLeft" t="textAreaTop" r="textAreaRight" b="textAreaBottom"/>
            <a:pathLst>
              <a:path w="2454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945" y="21600"/>
                </a:lnTo>
                <a:arcTo wR="3600" hR="3600" stAng="10800000" swAng="5400000"/>
                <a:lnTo>
                  <a:pt x="2454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38862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38280" y="35812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x2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3200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80880" y="304920"/>
            <a:ext cx="8382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unction   Machin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66cc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2286000"/>
            <a:ext cx="106668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96080" y="2286000"/>
            <a:ext cx="1143000" cy="3886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352680"/>
            <a:ext cx="1905120" cy="1676520"/>
          </a:xfrm>
          <a:custGeom>
            <a:avLst/>
            <a:gdLst>
              <a:gd name="textAreaLeft" fmla="*/ 197280 w 1905120"/>
              <a:gd name="textAreaRight" fmla="*/ 1707840 w 1905120"/>
              <a:gd name="textAreaTop" fmla="*/ 197280 h 1676520"/>
              <a:gd name="textAreaBottom" fmla="*/ 1479240 h 1676520"/>
            </a:gdLst>
            <a:ahLst/>
            <a:rect l="textAreaLeft" t="textAreaTop" r="textAreaRight" b="textAreaBottom"/>
            <a:pathLst>
              <a:path w="2454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945" y="21600"/>
                </a:lnTo>
                <a:arcTo wR="3600" hR="3600" stAng="10800000" swAng="5400000"/>
                <a:lnTo>
                  <a:pt x="2454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3809880"/>
            <a:ext cx="761760" cy="685800"/>
          </a:xfrm>
          <a:prstGeom prst="rightArrow">
            <a:avLst>
              <a:gd name="adj1" fmla="val 50000"/>
              <a:gd name="adj2" fmla="val 27769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3809880"/>
            <a:ext cx="838080" cy="685800"/>
          </a:xfrm>
          <a:prstGeom prst="rightArrow">
            <a:avLst>
              <a:gd name="adj1" fmla="val 50000"/>
              <a:gd name="adj2" fmla="val 30551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6002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ubway"/>
              </a:rPr>
              <a:t>IN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1600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ubway"/>
              </a:rPr>
              <a:t>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2438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41148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4800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9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5486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32004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81480" y="35812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+9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25146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40384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0120" y="47242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9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5486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5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3352680"/>
            <a:ext cx="1905120" cy="1676520"/>
          </a:xfrm>
          <a:custGeom>
            <a:avLst/>
            <a:gdLst>
              <a:gd name="textAreaLeft" fmla="*/ 197280 w 1905120"/>
              <a:gd name="textAreaRight" fmla="*/ 1707840 w 1905120"/>
              <a:gd name="textAreaTop" fmla="*/ 197280 h 1676520"/>
              <a:gd name="textAreaBottom" fmla="*/ 1479240 h 1676520"/>
            </a:gdLst>
            <a:ahLst/>
            <a:rect l="textAreaLeft" t="textAreaTop" r="textAreaRight" b="textAreaBottom"/>
            <a:pathLst>
              <a:path w="2454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0945" y="21600"/>
                </a:lnTo>
                <a:arcTo wR="3600" hR="3600" stAng="10800000" swAng="5400000"/>
                <a:lnTo>
                  <a:pt x="2454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1600" y="3886200"/>
            <a:ext cx="914400" cy="685800"/>
          </a:xfrm>
          <a:prstGeom prst="rightArrow">
            <a:avLst>
              <a:gd name="adj1" fmla="val 50000"/>
              <a:gd name="adj2" fmla="val 33333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35812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 Black"/>
              </a:rPr>
              <a:t>-9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772400" y="3200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1T19:36:30Z</dcterms:created>
  <dc:creator>Joanne  Smithies</dc:creator>
  <dc:description/>
  <dc:language>en-US</dc:language>
  <cp:lastModifiedBy>Joanne  Smithies</cp:lastModifiedBy>
  <dcterms:modified xsi:type="dcterms:W3CDTF">2002-09-08T18:27:07Z</dcterms:modified>
  <cp:revision>14</cp:revision>
  <dc:subject/>
  <dc:title>PowerPoint Presentation</dc:title>
</cp:coreProperties>
</file>