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D64-7096-4DBA-8B6B-F22FB4AB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ED0-DEE6-44C1-8000-276E7A8D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E89-8380-4171-8AD4-244A7217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CD40-1B48-44A0-BC54-E8944986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BBB-40C0-4018-956E-01E973A4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8DED-A15E-4F62-850F-FC2812BD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C167-AE9E-4F79-BC55-2BBA11CC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3820-D44B-4433-99A6-8D804D0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E1F-4811-4EA7-8A6A-739F03D9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9606-7A26-46B5-8CFC-189318B9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690E-2D83-42D7-937E-8A34DC7E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A69-A4B4-425C-BE87-33D54918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9D26-77A3-4C5B-A69A-738626EC1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3581280"/>
            <a:ext cx="7619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ths Bridg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b2b2b2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i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b2b2b2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algebra_md_clr" descr=""/>
          <p:cNvPicPr/>
          <p:nvPr/>
        </p:nvPicPr>
        <p:blipFill>
          <a:blip r:embed="rId1"/>
          <a:stretch/>
        </p:blipFill>
        <p:spPr>
          <a:xfrm>
            <a:off x="2362320" y="457200"/>
            <a:ext cx="3962160" cy="2311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67280" y="6583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anne Smithies   Our Lady &amp; St. Gerards R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4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3505320"/>
            <a:ext cx="1523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-7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7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286000"/>
            <a:ext cx="2209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124080"/>
            <a:ext cx="2514600" cy="1828800"/>
          </a:xfrm>
          <a:custGeom>
            <a:avLst/>
            <a:gdLst>
              <a:gd name="textAreaLeft" fmla="*/ 215280 w 2514600"/>
              <a:gd name="textAreaRight" fmla="*/ 2299320 w 2514600"/>
              <a:gd name="textAreaTop" fmla="*/ 215280 h 1828800"/>
              <a:gd name="textAreaBottom" fmla="*/ 1613520 h 1828800"/>
            </a:gdLst>
            <a:ahLst/>
            <a:rect l="textAreaLeft" t="textAreaTop" r="textAreaRight" b="textAreaBottom"/>
            <a:pathLst>
              <a:path w="2969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6098" y="21600"/>
                </a:lnTo>
                <a:arcTo wR="3600" hR="3600" stAng="10800000" swAng="5400000"/>
                <a:lnTo>
                  <a:pt x="29698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3733920"/>
            <a:ext cx="762120" cy="685800"/>
          </a:xfrm>
          <a:prstGeom prst="rightArrow">
            <a:avLst>
              <a:gd name="adj1" fmla="val 50000"/>
              <a:gd name="adj2" fmla="val 2778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373392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41148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4800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9880" y="34290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÷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81680" y="25146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3276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40384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724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54864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9:36:30Z</dcterms:created>
  <dc:creator>Joanne  Smithies</dc:creator>
  <dc:description/>
  <dc:language>en-US</dc:language>
  <cp:lastModifiedBy>Joanne  Smithies</cp:lastModifiedBy>
  <dcterms:modified xsi:type="dcterms:W3CDTF">2002-09-08T18:27:15Z</dcterms:modified>
  <cp:revision>6</cp:revision>
  <dc:subject/>
  <dc:title>PowerPoint Presentation</dc:title>
</cp:coreProperties>
</file>