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139-BE86-46F4-A545-4211F856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278-0849-4A8D-981E-80D7881C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E53-7576-4185-93CC-8C611FD7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64B-17DB-48A6-BA45-B6B76166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6A5-30D3-47A5-852E-87367918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B68-BC80-4050-8825-B451385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EC5-28FA-493A-8261-9E35A668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BCE-A31A-4245-92B4-ABEAB747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26D-3C02-4A60-BEC5-40FE24B4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CE9-7945-4F9B-88F1-F4C79A9F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947-853C-4F37-9E7A-10130833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82C-8E94-41AF-9075-25DDF20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C98B-EEB1-45EF-B87F-5D716B61D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3Z</dcterms:modified>
  <cp:revision>3</cp:revision>
  <dc:subject/>
  <dc:title>How Much ?</dc:title>
</cp:coreProperties>
</file>