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65C-E6CD-4BCF-9F89-5F1A4A23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959-E4F1-4DEA-8469-0D930FE2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268-37B4-4AC5-8175-670D0406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894-FDCB-4584-AF39-69C17C12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8C0-788B-49F6-B4B6-6EFA41CB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6A3-FBE2-41D1-A2A2-5B861E92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B69-A7B9-43BE-81D0-8CCA3003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3C2-CA10-4039-990A-FD9F433E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F99-556E-424F-94B7-BE51B492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DBE-99B6-4C0E-A2FC-3FB8199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331-3536-477F-9FBC-F5C96281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DD1-4B58-45B9-A053-ED609054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BDE-7318-4472-8BEF-525B94DE1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More and l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39625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200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3048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22096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22096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276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32004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2209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4419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267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200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124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5812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22860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2971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1911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1240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2004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2:53:30Z</dcterms:created>
  <dc:creator>Mairi Egger</dc:creator>
  <dc:description/>
  <dc:language>en-US</dc:language>
  <cp:lastModifiedBy>Mairi Egger</cp:lastModifiedBy>
  <dcterms:modified xsi:type="dcterms:W3CDTF">2003-03-16T13:06:23Z</dcterms:modified>
  <cp:revision>1</cp:revision>
  <dc:subject/>
  <dc:title>More and less</dc:title>
</cp:coreProperties>
</file>