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51A-E974-4F24-B985-35973A6E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D7E-9CCE-49B5-A94A-A1F3794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748-6DEB-4326-A5F6-C0C64DB7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84B-BB30-4CBD-BA77-4630E29D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ADA-F291-4B3D-AC7A-6C91804E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DD0-14B8-4714-A04A-F0F79527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25A-62C3-4761-8621-FE93EC1C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530-ED2C-49C4-9738-BA748D83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487-0E5C-4C53-831C-1AAFDA49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D85-5232-43E8-ACE7-B9CDC61B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D4A-3217-469C-BD6E-3A5F6F76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DD2-3C3E-4423-A230-7A370642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A576-A8E4-4617-9869-A945FA1C7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more and l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267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3200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124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enguin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4343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mo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9625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3048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20968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040240" y="60948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35812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286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5335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enguin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2096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enguin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811640" y="53352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971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nguin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40240" y="45720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200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3276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2004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2209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419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1240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32004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2:53:30Z</dcterms:created>
  <dc:creator>Mairi Egger</dc:creator>
  <dc:description/>
  <dc:language>en-US</dc:language>
  <cp:lastModifiedBy>Mairi Egger</cp:lastModifiedBy>
  <dcterms:modified xsi:type="dcterms:W3CDTF">2003-04-05T07:10:28Z</dcterms:modified>
  <cp:revision>5</cp:revision>
  <dc:subject/>
  <dc:title>More and less</dc:title>
</cp:coreProperties>
</file>