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3537-2F76-4348-8A05-C8E9FFF4B1C9}" type="slidenum"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will loop back to the first working sl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introduction as a whole class activity children can use this presentation individually for further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 Read the calculation when it app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 Count the pictures as they app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 Count the pictures as they disapp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 Count how many are lef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 Check your answer as it app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 Re-read the complete calcul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31B-6A05-4575-BA8B-16553FAC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7A8-6A48-45E3-982B-08BA1350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FD2-1DA2-499A-9409-466FA138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F48-CB94-4BAC-AC3E-7A8E73B3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4B5-4467-48B7-839E-16D8B49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ADF-A6CE-48B7-9C48-905F070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FD4-22D6-4BD3-B097-381E953F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D5F-2C8E-45AA-9C06-A2A2F550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9A5-22B1-4416-9DA5-D708CE1C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122-1DD4-4EE9-97EB-FF8B2CF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448-4D0B-4D7D-9E1F-667CA36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078-4C4F-443A-9451-932605F8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FCAF-29A0-4F92-BD3F-7AD3E3500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by Veronica Carter for Pandas Y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pavilion.co.uk/camelsdal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2209680"/>
            <a:ext cx="5410080" cy="4430880"/>
            <a:chOff x="457200" y="2209680"/>
            <a:chExt cx="5410080" cy="4430880"/>
          </a:xfrm>
        </p:grpSpPr>
        <p:graphicFrame>
          <p:nvGraphicFramePr>
            <p:cNvPr id="131" name=""/>
            <p:cNvGraphicFramePr/>
            <p:nvPr/>
          </p:nvGraphicFramePr>
          <p:xfrm>
            <a:off x="457200" y="2971800"/>
            <a:ext cx="1676520" cy="1382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97180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2362320" y="3809880"/>
            <a:ext cx="1676160" cy="1382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2320" y="380988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2286000" y="2209680"/>
            <a:ext cx="1676520" cy="1382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0" y="220968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33520" y="4648320"/>
            <a:ext cx="1676160" cy="13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520" y="464832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2438280" y="5257800"/>
            <a:ext cx="1676520" cy="1382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38280" y="525780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4191120" y="4648320"/>
            <a:ext cx="1676160" cy="1382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191120" y="464832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4114800" y="3124080"/>
            <a:ext cx="1676520" cy="1382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114800" y="312408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2971800"/>
          <a:ext cx="1676520" cy="13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62320" y="3809880"/>
          <a:ext cx="16761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80988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286000" y="2209680"/>
          <a:ext cx="1676520" cy="13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2096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4648320"/>
          <a:ext cx="167616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64832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438280" y="5257800"/>
          <a:ext cx="1676520" cy="13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257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114800" y="3124080"/>
          <a:ext cx="1676520" cy="1382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14800" y="31240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971800"/>
          <a:ext cx="1676520" cy="13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362320" y="3809880"/>
          <a:ext cx="16761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80988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86000" y="2209680"/>
          <a:ext cx="1676520" cy="13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2096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3520" y="4648320"/>
          <a:ext cx="167616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64832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438280" y="5257800"/>
          <a:ext cx="1676520" cy="13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257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486400" y="762120"/>
            <a:ext cx="129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2286000"/>
            <a:ext cx="4572000" cy="4367160"/>
            <a:chOff x="457200" y="2286000"/>
            <a:chExt cx="4572000" cy="4367160"/>
          </a:xfrm>
        </p:grpSpPr>
        <p:graphicFrame>
          <p:nvGraphicFramePr>
            <p:cNvPr id="172" name=""/>
            <p:cNvGraphicFramePr/>
            <p:nvPr/>
          </p:nvGraphicFramePr>
          <p:xfrm>
            <a:off x="533520" y="2286000"/>
            <a:ext cx="1904760" cy="101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28600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533520" y="3352680"/>
            <a:ext cx="1904760" cy="1014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335268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457200" y="4495680"/>
            <a:ext cx="1905120" cy="101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" y="4495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3124080" y="3352680"/>
            <a:ext cx="1905120" cy="1014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24080" y="3352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3048120" y="2286000"/>
            <a:ext cx="1904760" cy="1014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048120" y="228600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457200" y="5638680"/>
            <a:ext cx="1905120" cy="1014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" y="5638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3124080" y="4495680"/>
            <a:ext cx="1905120" cy="1014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124080" y="4495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3124080" y="5638680"/>
            <a:ext cx="1905120" cy="1014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124080" y="5638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124080" y="3352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4080" y="3352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124080" y="4495680"/>
          <a:ext cx="1905120" cy="1014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408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124080" y="3352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4080" y="3352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638680" y="83808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28800" y="8380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9 - 1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2590920"/>
            <a:ext cx="8534160" cy="3378240"/>
            <a:chOff x="304920" y="2590920"/>
            <a:chExt cx="8534160" cy="3378240"/>
          </a:xfrm>
        </p:grpSpPr>
        <p:graphicFrame>
          <p:nvGraphicFramePr>
            <p:cNvPr id="239" name=""/>
            <p:cNvGraphicFramePr/>
            <p:nvPr/>
          </p:nvGraphicFramePr>
          <p:xfrm>
            <a:off x="380880" y="4495680"/>
            <a:ext cx="1524240" cy="147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4495680"/>
                      <a:ext cx="152424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2133720" y="4495680"/>
            <a:ext cx="1523880" cy="147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33720" y="4495680"/>
                      <a:ext cx="152388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3962520" y="4495680"/>
            <a:ext cx="1523880" cy="147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62520" y="4495680"/>
                      <a:ext cx="152388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5" name=""/>
            <p:cNvGrpSpPr/>
            <p:nvPr/>
          </p:nvGrpSpPr>
          <p:grpSpPr>
            <a:xfrm>
              <a:off x="304920" y="2590920"/>
              <a:ext cx="8534160" cy="3301920"/>
              <a:chOff x="304920" y="2590920"/>
              <a:chExt cx="8534160" cy="3301920"/>
            </a:xfrm>
          </p:grpSpPr>
          <p:graphicFrame>
            <p:nvGraphicFramePr>
              <p:cNvPr id="246" name=""/>
              <p:cNvGraphicFramePr/>
              <p:nvPr/>
            </p:nvGraphicFramePr>
            <p:xfrm>
              <a:off x="304920" y="2590920"/>
              <a:ext cx="1523880" cy="14731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4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04920" y="25909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8" name=""/>
              <p:cNvGraphicFramePr/>
              <p:nvPr/>
            </p:nvGraphicFramePr>
            <p:xfrm>
              <a:off x="2057400" y="2590920"/>
              <a:ext cx="1523880" cy="14731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4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057400" y="25909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0" name=""/>
              <p:cNvGraphicFramePr/>
              <p:nvPr/>
            </p:nvGraphicFramePr>
            <p:xfrm>
              <a:off x="3809880" y="2590920"/>
              <a:ext cx="1524240" cy="14731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51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3809880" y="2590920"/>
                        <a:ext cx="152424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2" name=""/>
              <p:cNvGraphicFramePr/>
              <p:nvPr/>
            </p:nvGraphicFramePr>
            <p:xfrm>
              <a:off x="5791320" y="4419720"/>
              <a:ext cx="1523880" cy="14731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791320" y="44197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4" name=""/>
              <p:cNvGraphicFramePr/>
              <p:nvPr/>
            </p:nvGraphicFramePr>
            <p:xfrm>
              <a:off x="5638680" y="2590920"/>
              <a:ext cx="1524240" cy="14731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5638680" y="2590920"/>
                        <a:ext cx="152424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" name=""/>
              <p:cNvGraphicFramePr/>
              <p:nvPr/>
            </p:nvGraphicFramePr>
            <p:xfrm>
              <a:off x="7315200" y="3505320"/>
              <a:ext cx="1523880" cy="147312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7315200" y="35053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28800" y="8380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9 - 1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2590920"/>
          <a:ext cx="152388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909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057400" y="2590920"/>
          <a:ext cx="1523880" cy="14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5909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809880" y="2590920"/>
          <a:ext cx="1524240" cy="147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590920"/>
                    <a:ext cx="1524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80880" y="4495680"/>
          <a:ext cx="1524240" cy="147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4495680"/>
                    <a:ext cx="152424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133720" y="4495680"/>
          <a:ext cx="1523880" cy="1473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4495680"/>
                    <a:ext cx="1523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962520" y="4495680"/>
          <a:ext cx="1523880" cy="147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495680"/>
                    <a:ext cx="1523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791320" y="4419720"/>
          <a:ext cx="1523880" cy="1473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4197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638680" y="2590920"/>
          <a:ext cx="1524240" cy="1473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38680" y="2590920"/>
                    <a:ext cx="1524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5791320" y="838080"/>
            <a:ext cx="106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2514600"/>
            <a:ext cx="5595840" cy="3808440"/>
            <a:chOff x="457200" y="2514600"/>
            <a:chExt cx="5595840" cy="3808440"/>
          </a:xfrm>
        </p:grpSpPr>
        <p:graphicFrame>
          <p:nvGraphicFramePr>
            <p:cNvPr id="52" name=""/>
            <p:cNvGraphicFramePr/>
            <p:nvPr/>
          </p:nvGraphicFramePr>
          <p:xfrm>
            <a:off x="4267080" y="4724280"/>
            <a:ext cx="1785960" cy="1598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67080" y="4724280"/>
                      <a:ext cx="178596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4191120" y="2514600"/>
            <a:ext cx="1785960" cy="159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2514600"/>
                      <a:ext cx="178596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362320" y="37339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62320" y="3733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533520" y="2743200"/>
            <a:ext cx="7607160" cy="3486240"/>
            <a:chOff x="533520" y="2743200"/>
            <a:chExt cx="7607160" cy="3486240"/>
          </a:xfrm>
        </p:grpSpPr>
        <p:graphicFrame>
          <p:nvGraphicFramePr>
            <p:cNvPr id="277" name=""/>
            <p:cNvGraphicFramePr/>
            <p:nvPr/>
          </p:nvGraphicFramePr>
          <p:xfrm>
            <a:off x="533520" y="2743200"/>
            <a:ext cx="1511280" cy="1657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6629400" y="3581280"/>
            <a:ext cx="1511280" cy="1657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29400" y="358128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533520" y="4572000"/>
            <a:ext cx="1511280" cy="1657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5720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2666880" y="2743200"/>
            <a:ext cx="1511280" cy="1657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6688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2666880" y="4495680"/>
            <a:ext cx="1511280" cy="1657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66880" y="449568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"/>
            <p:cNvGraphicFramePr/>
            <p:nvPr/>
          </p:nvGraphicFramePr>
          <p:xfrm>
            <a:off x="4800600" y="4572000"/>
            <a:ext cx="1511280" cy="1657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00600" y="45720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"/>
            <p:cNvGraphicFramePr/>
            <p:nvPr/>
          </p:nvGraphicFramePr>
          <p:xfrm>
            <a:off x="4800600" y="2743200"/>
            <a:ext cx="1511280" cy="16574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80060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1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800600" y="4572000"/>
          <a:ext cx="1511280" cy="165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800600" y="2743200"/>
          <a:ext cx="1511280" cy="1657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060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800600" y="2743200"/>
          <a:ext cx="1511280" cy="165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76212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33520" y="2743200"/>
            <a:ext cx="5638680" cy="3411360"/>
            <a:chOff x="533520" y="2743200"/>
            <a:chExt cx="5638680" cy="3411360"/>
          </a:xfrm>
        </p:grpSpPr>
        <p:graphicFrame>
          <p:nvGraphicFramePr>
            <p:cNvPr id="328" name=""/>
            <p:cNvGraphicFramePr/>
            <p:nvPr/>
          </p:nvGraphicFramePr>
          <p:xfrm>
            <a:off x="533520" y="2743200"/>
            <a:ext cx="2514600" cy="143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74320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0" name=""/>
            <p:cNvGraphicFramePr/>
            <p:nvPr/>
          </p:nvGraphicFramePr>
          <p:xfrm>
            <a:off x="3657600" y="4724280"/>
            <a:ext cx="2514600" cy="143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57600" y="472428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2" name=""/>
            <p:cNvGraphicFramePr/>
            <p:nvPr/>
          </p:nvGraphicFramePr>
          <p:xfrm>
            <a:off x="533520" y="4724280"/>
            <a:ext cx="2514600" cy="143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72428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4" name=""/>
            <p:cNvGraphicFramePr/>
            <p:nvPr/>
          </p:nvGraphicFramePr>
          <p:xfrm>
            <a:off x="3657600" y="2743200"/>
            <a:ext cx="2514600" cy="143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657600" y="274320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3520" y="4724280"/>
          <a:ext cx="25146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2428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657600" y="2743200"/>
          <a:ext cx="251460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5760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533520" y="4724280"/>
          <a:ext cx="25146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2428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5334120" y="1066680"/>
            <a:ext cx="1523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28600" y="2895480"/>
            <a:ext cx="8686800" cy="3419640"/>
            <a:chOff x="228600" y="2895480"/>
            <a:chExt cx="8686800" cy="3419640"/>
          </a:xfrm>
        </p:grpSpPr>
        <p:graphicFrame>
          <p:nvGraphicFramePr>
            <p:cNvPr id="354" name=""/>
            <p:cNvGraphicFramePr/>
            <p:nvPr/>
          </p:nvGraphicFramePr>
          <p:xfrm>
            <a:off x="228600" y="2895480"/>
            <a:ext cx="2743200" cy="143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2895480"/>
                      <a:ext cx="2743200" cy="143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3200400" y="3886200"/>
            <a:ext cx="2743200" cy="1438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388620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"/>
            <p:cNvGraphicFramePr/>
            <p:nvPr/>
          </p:nvGraphicFramePr>
          <p:xfrm>
            <a:off x="6172200" y="4876920"/>
            <a:ext cx="2743200" cy="1438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2200" y="487692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"/>
            <p:cNvGraphicFramePr/>
            <p:nvPr/>
          </p:nvGraphicFramePr>
          <p:xfrm>
            <a:off x="6019920" y="2895480"/>
            <a:ext cx="2743200" cy="1438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9920" y="2895480"/>
                      <a:ext cx="2743200" cy="143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2" name=""/>
            <p:cNvGraphicFramePr/>
            <p:nvPr/>
          </p:nvGraphicFramePr>
          <p:xfrm>
            <a:off x="228600" y="4800600"/>
            <a:ext cx="2743200" cy="1438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8600" y="480060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200400" y="38862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8862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019920" y="2895480"/>
          <a:ext cx="2743200" cy="143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91120" y="2514600"/>
          <a:ext cx="1785960" cy="15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514600"/>
                    <a:ext cx="17859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362320" y="3733920"/>
          <a:ext cx="1785960" cy="159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733920"/>
                    <a:ext cx="17859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68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200400" y="38862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8862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83808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0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520" y="2209680"/>
            <a:ext cx="6532560" cy="4400640"/>
            <a:chOff x="533520" y="2209680"/>
            <a:chExt cx="6532560" cy="4400640"/>
          </a:xfrm>
        </p:grpSpPr>
        <p:graphicFrame>
          <p:nvGraphicFramePr>
            <p:cNvPr id="392" name=""/>
            <p:cNvGraphicFramePr/>
            <p:nvPr/>
          </p:nvGraphicFramePr>
          <p:xfrm>
            <a:off x="609480" y="2209680"/>
            <a:ext cx="1808280" cy="2114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220968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"/>
            <p:cNvGraphicFramePr/>
            <p:nvPr/>
          </p:nvGraphicFramePr>
          <p:xfrm>
            <a:off x="2895480" y="2286000"/>
            <a:ext cx="1808280" cy="2114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95480" y="228600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6" name=""/>
            <p:cNvGraphicFramePr/>
            <p:nvPr/>
          </p:nvGraphicFramePr>
          <p:xfrm>
            <a:off x="533520" y="4495680"/>
            <a:ext cx="1807920" cy="2114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495680"/>
                      <a:ext cx="180792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8" name=""/>
            <p:cNvGraphicFramePr/>
            <p:nvPr/>
          </p:nvGraphicFramePr>
          <p:xfrm>
            <a:off x="2819520" y="4495680"/>
            <a:ext cx="1807920" cy="2114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19520" y="4495680"/>
                      <a:ext cx="180792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0" name=""/>
            <p:cNvGraphicFramePr/>
            <p:nvPr/>
          </p:nvGraphicFramePr>
          <p:xfrm>
            <a:off x="5181480" y="4495680"/>
            <a:ext cx="1808280" cy="2114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81480" y="449568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5257800" y="2286000"/>
            <a:ext cx="1808280" cy="2114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57800" y="228600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33520" y="4495680"/>
          <a:ext cx="180792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2819520" y="4495680"/>
          <a:ext cx="1807920" cy="21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9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33520" y="4495680"/>
          <a:ext cx="180792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867280" y="685800"/>
            <a:ext cx="175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981080" y="838080"/>
            <a:ext cx="4191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0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09480" y="3048120"/>
            <a:ext cx="8001000" cy="2743200"/>
            <a:chOff x="609480" y="3048120"/>
            <a:chExt cx="8001000" cy="2743200"/>
          </a:xfrm>
        </p:grpSpPr>
        <p:graphicFrame>
          <p:nvGraphicFramePr>
            <p:cNvPr id="439" name=""/>
            <p:cNvGraphicFramePr/>
            <p:nvPr/>
          </p:nvGraphicFramePr>
          <p:xfrm>
            <a:off x="609480" y="3048120"/>
            <a:ext cx="160020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1" name=""/>
            <p:cNvGraphicFramePr/>
            <p:nvPr/>
          </p:nvGraphicFramePr>
          <p:xfrm>
            <a:off x="2743200" y="3048120"/>
            <a:ext cx="1600200" cy="1143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4320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"/>
            <p:cNvGraphicFramePr/>
            <p:nvPr/>
          </p:nvGraphicFramePr>
          <p:xfrm>
            <a:off x="609480" y="4648320"/>
            <a:ext cx="1600200" cy="1143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948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"/>
            <p:cNvGraphicFramePr/>
            <p:nvPr/>
          </p:nvGraphicFramePr>
          <p:xfrm>
            <a:off x="2743200" y="4648320"/>
            <a:ext cx="1600200" cy="114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4320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7" name=""/>
            <p:cNvGraphicFramePr/>
            <p:nvPr/>
          </p:nvGraphicFramePr>
          <p:xfrm>
            <a:off x="4876920" y="4648320"/>
            <a:ext cx="1600200" cy="1143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87692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"/>
            <p:cNvGraphicFramePr/>
            <p:nvPr/>
          </p:nvGraphicFramePr>
          <p:xfrm>
            <a:off x="4876920" y="3048120"/>
            <a:ext cx="1600200" cy="114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7692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"/>
            <p:cNvGraphicFramePr/>
            <p:nvPr/>
          </p:nvGraphicFramePr>
          <p:xfrm>
            <a:off x="7010280" y="4648320"/>
            <a:ext cx="1600200" cy="1143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01028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"/>
            <p:cNvGraphicFramePr/>
            <p:nvPr/>
          </p:nvGraphicFramePr>
          <p:xfrm>
            <a:off x="7010280" y="3048120"/>
            <a:ext cx="1600200" cy="11430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01028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5" name=""/>
          <p:cNvSpPr/>
          <p:nvPr/>
        </p:nvSpPr>
        <p:spPr>
          <a:xfrm>
            <a:off x="5867280" y="838080"/>
            <a:ext cx="152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62320" y="3733920"/>
          <a:ext cx="1785960" cy="15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33920"/>
                    <a:ext cx="17859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76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82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" name=""/>
          <p:cNvSpPr/>
          <p:nvPr/>
        </p:nvSpPr>
        <p:spPr>
          <a:xfrm>
            <a:off x="5638680" y="83808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2514600"/>
            <a:ext cx="4697280" cy="3297240"/>
            <a:chOff x="457200" y="2514600"/>
            <a:chExt cx="4697280" cy="3297240"/>
          </a:xfrm>
        </p:grpSpPr>
        <p:graphicFrame>
          <p:nvGraphicFramePr>
            <p:cNvPr id="89" name=""/>
            <p:cNvGraphicFramePr/>
            <p:nvPr/>
          </p:nvGraphicFramePr>
          <p:xfrm>
            <a:off x="457200" y="2514600"/>
            <a:ext cx="1268280" cy="1544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51460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2133720" y="2514600"/>
            <a:ext cx="1268280" cy="1544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33720" y="251460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533520" y="4267080"/>
            <a:ext cx="1268280" cy="1544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2133720" y="4267080"/>
            <a:ext cx="1268280" cy="154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3886200" y="4267080"/>
            <a:ext cx="1268280" cy="154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3809880" y="2514600"/>
            <a:ext cx="1268640" cy="154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809880" y="2514600"/>
                      <a:ext cx="126864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3520" y="4267080"/>
          <a:ext cx="126828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133720" y="4267080"/>
          <a:ext cx="1268280" cy="154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520" y="4267080"/>
          <a:ext cx="126828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181480" y="685800"/>
            <a:ext cx="144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24:35Z</dcterms:created>
  <dc:creator>Veronica</dc:creator>
  <dc:description/>
  <dc:language>en-US</dc:language>
  <cp:lastModifiedBy>Veronica</cp:lastModifiedBy>
  <dcterms:modified xsi:type="dcterms:W3CDTF">2001-02-17T11:58:53Z</dcterms:modified>
  <cp:revision>19</cp:revision>
  <dc:subject/>
  <dc:title>No Slide Title</dc:title>
</cp:coreProperties>
</file>