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EC91-5FF2-4517-AC4D-6E01E5CA9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799A-150C-4D7C-B8F3-6FF57999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B992-8094-4E49-9D66-835DAB4B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97E5-0D16-420D-84BF-D3DD034BE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22E9-01EC-4F3A-8768-1D131CA8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08B8-42FF-433E-B82C-9B26C85C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09F2-634D-42EB-A2F8-D839ED86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4E1F-1349-41FD-A5F3-55DDD181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A5DD-6E21-487A-8A0F-FE3B44EF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68D2-4215-4FD7-8C90-83B3101D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9FF7-F699-4FF5-AAC4-358B2544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D823-8214-446C-898B-4A9A9FCD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3662-7BF1-4450-B4E4-07F42C790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60280"/>
            <a:ext cx="7993080" cy="5814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raction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341360"/>
            <a:ext cx="1944720" cy="6426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¼ of 168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2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76720" y="134136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1/3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7 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9 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5 s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134136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1/8 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00 s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3/4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12 p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84 p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3/5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70 ap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2 ap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5/8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6 pe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5 pe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1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7/9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72 pi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6 pi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8 chic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51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3/7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12 chic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5157720"/>
            <a:ext cx="1944720" cy="6426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4/11 of half of 17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21:23:13Z</dcterms:created>
  <dc:creator>Teacher</dc:creator>
  <dc:description/>
  <dc:language>en-US</dc:language>
  <cp:lastModifiedBy>teacher</cp:lastModifiedBy>
  <dcterms:modified xsi:type="dcterms:W3CDTF">2003-06-24T15:32:14Z</dcterms:modified>
  <cp:revision>3</cp:revision>
  <dc:subject/>
  <dc:title>Slide 1</dc:title>
</cp:coreProperties>
</file>