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EF1-3BB6-4E7A-954D-301CF301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33A-100E-4FBC-A01A-F5126C3C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9A9-68A0-4082-9E1E-DC580C07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B1B-DCDC-4F2A-B9B8-017C1009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C26-E401-4906-B7C4-3CBD6773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479-A6AB-4423-97BA-69B5BC72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8BA-8C52-4A96-A7E7-CAEB759A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953-0939-4380-8909-494C7960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2A0-A36E-4E5B-AD8E-866CAFE7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268-6F41-4D67-8582-758B4D07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064-E0EF-48A8-A3C9-A04D5298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176-179D-42B2-972E-9A33073C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A6D5-66CC-465B-875A-CA13990A6D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019920"/>
            <a:ext cx="7620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is the answer below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x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x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x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x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x 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x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x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5:47:45Z</dcterms:modified>
  <cp:revision>2</cp:revision>
  <dc:subject/>
  <dc:title>PowerPoint Presentation</dc:title>
</cp:coreProperties>
</file>