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403-46C4-447C-B099-7A75DF33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416-080E-4D51-9647-6E61733D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6960-7832-4C70-A3F6-58F6A8B2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AC9-CEED-4E14-85B6-C3C1421B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FE43-4DAE-45AE-A652-F42F75AB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070C-9674-4CE7-8075-B5918B57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B8E-AFCD-420C-81F2-17ACF825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AA1-E59F-432F-BFC1-0ADB51EC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8BA-7381-4AEB-A28D-E7976EF9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EC6-5797-44F9-B131-8D8A4B2F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B88-DC01-462E-8A87-B4631A39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074-FFDC-484A-867A-9FBFE632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42E0-6CAF-4048-85EC-10940FEF5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"/>
            <a:ext cx="8229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get Numbers – Plac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267080"/>
            <a:ext cx="2209680" cy="221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343400"/>
            <a:ext cx="221004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22096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838080"/>
            <a:ext cx="22096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838080"/>
            <a:ext cx="221004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05720" y="838080"/>
            <a:ext cx="22096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make any of the circle numbers by multiplying and adding any or all of the triangle numb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8:26:39Z</dcterms:created>
  <dc:creator>ok</dc:creator>
  <dc:description/>
  <dc:language>en-US</dc:language>
  <cp:lastModifiedBy>ok</cp:lastModifiedBy>
  <dcterms:modified xsi:type="dcterms:W3CDTF">2003-08-27T18:27:13Z</dcterms:modified>
  <cp:revision>1</cp:revision>
  <dc:subject/>
  <dc:title>PowerPoint Presentation</dc:title>
</cp:coreProperties>
</file>