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7A71-AA81-486F-BE26-F4EC59FAB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26EE-DD9D-406A-989F-1DCB92D95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79A2-CD5C-49B6-87CC-64C652F13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FAA1-A629-40FC-81D2-0D1D6F8E0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A598-1B20-49CA-A851-FC5E238EC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1697-6483-413A-85CD-0003672D9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B4F4-B34F-45B9-A8B2-A289D4ABD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4F8C-0E68-4B6F-88F5-47CFE411E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B325-8FC3-4886-B120-D53C082A9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703F-78F3-494E-B6C7-2993131A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9DD8-4FBC-4D70-9184-8645A19F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348E-C970-4301-A238-E7D7B565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E5D0A-C1AA-4ABA-ADE4-687FE1C352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380880"/>
            <a:ext cx="807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 the Box -  Fractions and Decimal Equival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85800" y="1066680"/>
          <a:ext cx="7924320" cy="4546440"/>
        </p:xfrm>
        <a:graphic>
          <a:graphicData uri="http://schemas.openxmlformats.org/drawingml/2006/table">
            <a:tbl>
              <a:tblPr/>
              <a:tblGrid>
                <a:gridCol w="1584720"/>
                <a:gridCol w="1585080"/>
                <a:gridCol w="1584720"/>
                <a:gridCol w="1584720"/>
                <a:gridCol w="1585080"/>
              </a:tblGrid>
              <a:tr h="22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1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1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04920" y="6019920"/>
            <a:ext cx="8686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019920"/>
            <a:ext cx="914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at are the equivalent fractions below the decimal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066680"/>
            <a:ext cx="1600200" cy="228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0.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1066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0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352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0.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0" y="3352680"/>
            <a:ext cx="1600200" cy="228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0.1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86200" y="1066680"/>
            <a:ext cx="1600200" cy="228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0.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3352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86400" y="1066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3352680"/>
            <a:ext cx="1600200" cy="228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0.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86600" y="1066680"/>
            <a:ext cx="1600200" cy="228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0.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86600" y="3352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5:19:38Z</dcterms:created>
  <dc:creator>ok</dc:creator>
  <dc:description/>
  <dc:language>en-US</dc:language>
  <cp:lastModifiedBy>ok</cp:lastModifiedBy>
  <dcterms:modified xsi:type="dcterms:W3CDTF">2003-08-28T12:14:10Z</dcterms:modified>
  <cp:revision>3</cp:revision>
  <dc:subject/>
  <dc:title>PowerPoint Presentation</dc:title>
</cp:coreProperties>
</file>