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7DB-7CAB-4F9D-A0BC-5644D99F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98C-8ACB-4B08-86FB-A57BD64B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F9DA-E5C1-4A97-A8A2-451701EA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857-CC59-4777-9A15-1FCCE69C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110-5365-4455-B7B3-1BAD4CD2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B70-C6AC-4F02-8C34-2F8A989D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51E-A96C-4341-A0FB-208C52AB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4ED-16C0-4F08-ADCF-A0438DF8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AE5-F9E7-4D1E-8237-3ECE0E54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5DC-B024-4CF8-ACA7-F4F84DCF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F24-1BC9-4930-937A-081B97C2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0E9-BC19-458D-BAA5-13CEE73C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874C-9AB6-407B-B5ED-91FC6299C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ercentage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0% of  240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4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0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80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8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0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5% 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0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25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8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5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0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5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0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75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2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4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213520"/>
            <a:ext cx="2158920" cy="94644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d out the new price of a dress costing £80 that has been reduced by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157720"/>
            <a:ext cx="2737080" cy="7333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d out the new price of a dress costing £1200 that has been reduced by 4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£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23:13Z</dcterms:created>
  <dc:creator>Teacher</dc:creator>
  <dc:description/>
  <dc:language>en-US</dc:language>
  <cp:lastModifiedBy>Teacher</cp:lastModifiedBy>
  <dcterms:modified xsi:type="dcterms:W3CDTF">2003-04-01T07:19:13Z</dcterms:modified>
  <cp:revision>4</cp:revision>
  <dc:subject/>
  <dc:title>Slide 1</dc:title>
</cp:coreProperties>
</file>