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F91-996E-4C47-9795-64AF43D5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F49-8F69-4692-8A97-5DA1414A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916-A2F3-466C-9521-F2745A53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756-793D-435C-B432-433FA564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1B0-D3C7-4950-AC56-68BCB270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5C7-F7C8-475D-BCC5-3BC7A4BE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87E-779E-4A3C-A8C0-9D3DB651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C00-65ED-4063-B043-CE4A82DC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845-DE46-4330-BCC0-E81BEB83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15C-A301-4F4C-97D4-8F56DB68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C08-C786-4B04-908D-92FAC5AB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52B-16AD-42E3-A47D-FAD6F595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7F30-00FB-47C7-AB2B-F0AE84FA79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All Wrong – Addition</a:t>
            </a:r>
            <a:r>
              <a:rPr b="1" i="1" lang="en-US" sz="3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371600"/>
          <a:ext cx="8229600" cy="391464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  <a:gridCol w="1646280"/>
                <a:gridCol w="1646280"/>
              </a:tblGrid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+ 5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+ 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 + 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+ 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+ 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+ 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+ 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09480" y="5715000"/>
            <a:ext cx="815364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k out and explain what is wrong with each addition to 100 and find the correct answers. What needs to be added to the red numbers to mak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58Z</dcterms:created>
  <dc:creator>ok</dc:creator>
  <dc:description/>
  <dc:language>en-US</dc:language>
  <cp:lastModifiedBy>ok</cp:lastModifiedBy>
  <dcterms:modified xsi:type="dcterms:W3CDTF">2003-08-27T17:01:27Z</dcterms:modified>
  <cp:revision>3</cp:revision>
  <dc:subject/>
  <dc:title>PowerPoint Presentation</dc:title>
</cp:coreProperties>
</file>