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CDD-F40F-4ABC-BFA7-2494C72C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8F1-567D-4E26-A54B-4567FB32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237-4F01-4F0B-9A25-93E7F80B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B3B-B4EA-4AA5-A063-985033E4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989C-D09B-4133-9829-B23AB9B1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702-1B85-4737-B5C3-AC0EEBC6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E54-F6F0-4D12-B7A7-3A0EFE0B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5039-CA08-4911-BD92-BB37CD93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212-52AD-4321-AB52-4925ACE3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DA9-41C1-45F9-A734-26C1384C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A30B-2235-4ED2-9887-D99D6CEE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F1E-BBAC-4533-8C5A-F5D5924B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BFA8-868C-47BA-8CE8-4348EC799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9079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12% 0f 33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16720" y="494172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75% 0f 204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21000"/>
            <a:ext cx="18000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greater; 30% of 213 or 1/5 of 3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357336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35% of 46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544500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3/7 of 8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836640"/>
            <a:ext cx="1800000" cy="173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8-packs of crips can be made from a total package of 768 cris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72360" y="2492280"/>
            <a:ext cx="1800000" cy="916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reater; 1/3 of 2070 or 20% of 34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933720"/>
            <a:ext cx="1800360" cy="916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50% of of a quarter of 68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2360" y="9079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1/5 of 339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3737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90% of 64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0:57:02Z</dcterms:created>
  <dc:creator>Teacher</dc:creator>
  <dc:description/>
  <dc:language>en-US</dc:language>
  <cp:lastModifiedBy>Teacher</cp:lastModifiedBy>
  <dcterms:modified xsi:type="dcterms:W3CDTF">2003-03-13T22:37:32Z</dcterms:modified>
  <cp:revision>4</cp:revision>
  <dc:subject/>
  <dc:title>Slide 1</dc:title>
</cp:coreProperties>
</file>