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A436-E59C-4205-9E4E-26B3F9BF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6B23-220C-4E1C-BFC1-53150DD6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FE3E-A226-49E7-A108-E27DF2BE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9ABE-82EA-40B6-9D47-09F9E830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E80-4B28-4EA9-8D4E-2364DD02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C4E-D2DF-4819-821E-DFAF8F4C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A00-72DD-485B-8F69-4C2CAA70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C46-2C00-40BA-85EC-BDA379A5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FB68-6EE9-413D-9991-931C4685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DC9-1802-4F31-B7B1-A1561072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26B9-7885-43B2-AF37-C103BCE6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D987-0A04-4032-9805-7F77303A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9232-4C49-414C-8EDF-1F2980DFA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ng Numbers - Sub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295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264 – 99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13716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3716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209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488 – 199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200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428 – 198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32767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32767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114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693 – 298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1911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1911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5029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776 – 397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51055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51055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51055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867280"/>
            <a:ext cx="84582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find out what the missing digits are for these subtra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1295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362 – 199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62920" y="13716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13716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2209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344 – 199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3124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365 – 299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32004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32004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038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724 – 197 =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41148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41148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4952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693 – 587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50292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43800" y="50292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7:13:47Z</dcterms:created>
  <dc:creator>ok</dc:creator>
  <dc:description/>
  <dc:language>en-US</dc:language>
  <cp:lastModifiedBy>ok</cp:lastModifiedBy>
  <dcterms:modified xsi:type="dcterms:W3CDTF">2003-08-27T17:14:12Z</dcterms:modified>
  <cp:revision>1</cp:revision>
  <dc:subject/>
  <dc:title>PowerPoint Presentation</dc:title>
</cp:coreProperties>
</file>