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CD4-259B-4951-910E-D8956811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4BD-2DEB-499C-A435-2FA5D89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B65-75DA-47C3-ADC4-3CA9675E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79C-CDA7-4253-BBE1-712C7EAC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D8C-4D05-4605-86EB-489E34CA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298-CE3C-4009-8C16-FE9E87B1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C95-859A-4F61-B5C1-154C1887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06D-3E58-40B8-9DC3-68357A9F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872-EC5F-4F3C-A04F-E3E8D890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623-FB4F-4A25-8A60-1D84F10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441-DA5F-4C52-A337-21F7F75D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11E-F7ED-4219-A6C9-F28055F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DDA6-F998-4A28-839C-8FE509387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25% 0f 486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6720" y="4941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75% 0f 82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21000"/>
            <a:ext cx="18000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greater; 50% of 213 or 30% of 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5% 0f 46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44500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/12 of 8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836640"/>
            <a:ext cx="180000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boxes will be needed to put 768 eggs into packs of 1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2492280"/>
            <a:ext cx="180000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ater; 1/3 of 2070 or 20% of 3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933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half of 2/3 of 87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/3 of 213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57:02Z</dcterms:created>
  <dc:creator>Teacher</dc:creator>
  <dc:description/>
  <dc:language>en-US</dc:language>
  <cp:lastModifiedBy>Teacher</cp:lastModifiedBy>
  <dcterms:modified xsi:type="dcterms:W3CDTF">2003-03-13T13:19:31Z</dcterms:modified>
  <cp:revision>3</cp:revision>
  <dc:subject/>
  <dc:title>Slide 1</dc:title>
</cp:coreProperties>
</file>