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D1B-2DDB-4D7E-B988-4BD0BF59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93B-DECB-4AF2-8739-00FDD882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7517-D2D7-4FB4-8697-43F23701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D9EA-C256-460D-BA43-7AA0BEF3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7289-F6D0-4EF9-8CED-86218609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A121-95C1-44CA-B18E-49450221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24F8-306D-45B1-9F3C-C611BC3C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33B-8121-43C7-BE68-0217926F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CC37-29F3-45A0-A0AA-438D576A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1B75-CD0C-4216-A615-9566FB03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5F5-891B-4A06-83AC-0C140EBC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218B-2BF8-4ECD-9689-F300E1B1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4C7B-6E79-4A1D-91A6-1EA1E7962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78487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Wrong -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447920"/>
            <a:ext cx="2210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2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6 =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286000"/>
            <a:ext cx="2210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72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9 =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3200400"/>
            <a:ext cx="2210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8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6 =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114800"/>
            <a:ext cx="2210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2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7 =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95288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96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4 =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1523880"/>
            <a:ext cx="2438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66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6 =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2362320"/>
            <a:ext cx="2209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35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7 =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3200400"/>
            <a:ext cx="2209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64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8 =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4114800"/>
            <a:ext cx="2209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4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8 =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487692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87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3 =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9436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Find the correct answers for these divisions, showing how you found the answer for each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9:46:19Z</dcterms:created>
  <dc:creator>ok</dc:creator>
  <dc:description/>
  <dc:language>en-US</dc:language>
  <cp:lastModifiedBy>ok</cp:lastModifiedBy>
  <dcterms:modified xsi:type="dcterms:W3CDTF">2003-08-27T19:46:40Z</dcterms:modified>
  <cp:revision>1</cp:revision>
  <dc:subject/>
  <dc:title>PowerPoint Presentation</dc:title>
</cp:coreProperties>
</file>