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D4B-F883-40E2-BF2E-6F8AE434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DD3-B00E-4836-9CE4-F1601C5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3B6-ECFC-4071-8D22-C2E66F4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62E-9C60-402D-BDCC-A6683CE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61C-190F-4D90-8556-BAA610D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EBB-4BDB-4A9F-B84B-84969DA4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3C2-98DF-4DD3-B7C5-FB30232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F60-840F-416A-84A9-EBDF5C9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FE6-96F0-4342-8F14-68C8660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6C8-0F17-40A9-B47F-386114D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E4C-12DD-4E9A-A8B1-551192E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80C-63D6-443D-8C15-96046B1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177-3ADC-4385-BA84-941ABA441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33:04Z</dcterms:modified>
  <cp:revision>2</cp:revision>
  <dc:subject/>
  <dc:title>PowerPoint Presentation</dc:title>
</cp:coreProperties>
</file>