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B3F-0479-4935-BB39-83C6018E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3AF-0079-4C11-B4A9-49D3A37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DAE-D81D-4A0A-93D2-DA7145DB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C25-7E75-48E5-A259-79241C77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9D9-CF6A-40AB-B217-9A1716C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839-E432-424E-99AC-39203792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3CB-ACB7-4BDA-BFA4-FD82E799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4A2-E060-40FD-9045-3671EDA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FB4-007F-49CD-BFD3-9BBCA7F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0C0-DAD0-4371-9078-4F2CBA3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8ED-1D37-4AD6-A42A-F043304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7A8-CBF7-4780-BC60-776DB43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38BD-F060-4D8C-A98A-5B5B41A3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991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Wrong – Addition of positive and nega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6 + 7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rrect answers for these additions, using a number line to help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2 + - 3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 + 10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01 + -25 = 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8 + 64 = 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1 + - 15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8 + -16 = 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9 + -17 =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30 + 16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 + -38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5:09:16Z</dcterms:modified>
  <cp:revision>3</cp:revision>
  <dc:subject/>
  <dc:title>PowerPoint Presentation</dc:title>
</cp:coreProperties>
</file>