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95F-C89D-430E-BC80-FF217B63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910-E37F-4992-B0C0-0CB5F8FB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8C9-303E-4158-BD82-FF85FA8A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AB3-37B0-4578-8944-866D02F9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610-DF5C-4BA4-9062-3F4BCA26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7ED-C06B-465C-AA95-CEAC1DBA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E36-2C1B-4869-B7A3-17B133EE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E84-2275-4742-9419-36E54C07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D482-0AE3-45B0-933F-0A89E06F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6CB0-9F2D-4E7B-A839-C331F0CA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05A-3542-49CD-9289-FB6A675F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B1B-7E32-4D9A-8B88-4835BFC5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3176-6B03-4727-A953-1540E4FDFA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30592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vision – Halves, Quarters and Eighths of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1397160"/>
          <a:ext cx="7925040" cy="491796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981080"/>
                <a:gridCol w="19814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What is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0" lang="en-GB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2 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4 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8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6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26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4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19Z</dcterms:created>
  <dc:creator>ok</dc:creator>
  <dc:description/>
  <dc:language>en-US</dc:language>
  <cp:lastModifiedBy>ok</cp:lastModifiedBy>
  <dcterms:modified xsi:type="dcterms:W3CDTF">2003-08-27T16:08:41Z</dcterms:modified>
  <cp:revision>2</cp:revision>
  <dc:subject/>
  <dc:title>PowerPoint Presentation</dc:title>
</cp:coreProperties>
</file>