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7470-5A6D-4590-A0FD-B622BA7A6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DC05-D93B-40E2-8397-EEDB101B7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72C3-8506-47ED-A828-D4BEEAB0D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84E9-C4EB-4E9D-A4CA-9AA1E1BE2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5553-2C3A-44D1-B03F-B7466EBCE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96D6-4D79-4FD1-9655-5AC29914C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8D53-3F74-49B2-8B28-62FC3A092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5D96-0C02-4AB2-8552-AEBD283EA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F20E-48E0-4788-9DF3-8E00D426D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871F-4E55-4AAA-B390-AF5DB4309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01AD-A314-4D93-90A3-5D6FEC0BA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5C14-98C2-430D-B4F9-4CE9A885C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35450-D79C-4FE7-9255-6FE273B36F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380880"/>
            <a:ext cx="80773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pen the Box -  Multipl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85800" y="1066680"/>
          <a:ext cx="7924320" cy="4546440"/>
        </p:xfrm>
        <a:graphic>
          <a:graphicData uri="http://schemas.openxmlformats.org/drawingml/2006/table">
            <a:tbl>
              <a:tblPr/>
              <a:tblGrid>
                <a:gridCol w="1584720"/>
                <a:gridCol w="1585080"/>
                <a:gridCol w="1584720"/>
                <a:gridCol w="1584720"/>
                <a:gridCol w="1585080"/>
              </a:tblGrid>
              <a:tr h="22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2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1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304920" y="6019920"/>
            <a:ext cx="8686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6019920"/>
            <a:ext cx="8458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at must you add to the number on the green box to make 1000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1066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0" y="1066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2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3352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0" y="3352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7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86200" y="1066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9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3352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8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486400" y="3352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086600" y="1066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36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486400" y="1066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89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86600" y="3352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5:19:38Z</dcterms:created>
  <dc:creator>ok</dc:creator>
  <dc:description/>
  <dc:language>en-US</dc:language>
  <cp:lastModifiedBy>ok</cp:lastModifiedBy>
  <dcterms:modified xsi:type="dcterms:W3CDTF">2003-08-27T16:45:11Z</dcterms:modified>
  <cp:revision>3</cp:revision>
  <dc:subject/>
  <dc:title>PowerPoint Presentation</dc:title>
</cp:coreProperties>
</file>