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667-73F7-4AB1-9FB7-BFC72D6B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6E0-508E-4F21-B586-28B993FA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34F-5469-42A3-BB2B-CFC07A59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F3F-8AD6-461C-A53E-CFBEA5CA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B8D-C519-4E08-BD99-70FA4EC4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960-9F1E-4C3E-9DF0-CDF9FC61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121-5B72-41E4-9F29-B893D056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F46-B27D-4355-8E0B-6437C833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33D-274A-46EA-828B-A1778382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B6B-45E0-42D5-BD35-330B58B3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57A-FFD0-4964-8EF6-DF9AD4B5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82C-7029-47D0-9997-6B13EC16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F769-2A32-4CF0-A3E9-AA8A612FE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ing by 10 and then adding and subtrac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dividing a 2 digit number, such as 20, and then adding or subtracting to reach the number. Example: 30 divided by 3 is 10, take away 4.6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13:32Z</dcterms:modified>
  <cp:revision>3</cp:revision>
  <dc:subject/>
  <dc:title>PowerPoint Presentation</dc:title>
</cp:coreProperties>
</file>