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200-1C6F-4637-9751-680ABA34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15B-941E-4260-89EC-2505AFA8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661-1BCB-44D4-98B1-BB00022E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5D1-9F34-45E3-B2C2-312B0FEB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EA5-7F1A-4032-A104-0FA2CED6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720-CF74-40AB-82EE-38D4803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0F3-9BDA-4292-AD46-1032390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E0A-9144-44B3-9F47-EB00F8E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BF5-216C-4D49-B858-974C264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B69-61EB-431B-AAF5-0A96CC3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263-363D-494F-8480-9F1370E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4ED-1D42-42C1-949E-957E2DF1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E50-048D-4CCD-85ED-3FEFF9CB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637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141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836640"/>
            <a:ext cx="2808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789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429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69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516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156360"/>
            <a:ext cx="280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16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33:30Z</dcterms:created>
  <dc:creator>Teacher</dc:creator>
  <dc:description/>
  <dc:language>en-US</dc:language>
  <cp:lastModifiedBy>Teacher</cp:lastModifiedBy>
  <dcterms:modified xsi:type="dcterms:W3CDTF">2003-02-05T22:37:56Z</dcterms:modified>
  <cp:revision>2</cp:revision>
  <dc:subject/>
  <dc:title>Slide 1</dc:title>
</cp:coreProperties>
</file>