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091-6EA3-4107-83DE-E30DA1F3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C25-23F6-4B7C-997A-6CD9A35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DC8-3C1A-4742-A723-9F480250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989-1EA9-463E-BAF5-CFC7E5A7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30D-9910-42A1-AFA8-1801953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69F-355B-4D2A-8F17-F9023E9E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0CE-01CB-4975-A2BE-3B1A069D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14B-EC49-40C5-AD56-F0ADFFC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026-F318-47F2-BC10-085E0D7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712-FEA1-446C-A3AD-97762CB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070-ECB7-4F11-96CC-862BE74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829-6151-461A-939D-265FC4D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942-600D-45FF-863C-EAD0C708B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98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68360" y="18432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2781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12T09:14:18Z</dcterms:modified>
  <cp:revision>3</cp:revision>
  <dc:subject/>
  <dc:title>Slide 1</dc:title>
</cp:coreProperties>
</file>