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FC3-C040-4F6E-AE57-64129C2F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A41-DEDE-4A28-B768-E0570E11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861-18F2-4CB6-84E4-CC9E0DBB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DC2-04AA-401D-8177-BBBB38C4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1E6-79B2-4DE6-8177-A73FF68B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CC0-865F-4FF9-8857-66E63A31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273-FD0C-4916-B0C1-3D0B6652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4DB0-6AF1-4543-BADB-F9EB571B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416-F93F-47DD-BAB7-124EEFC0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161-56DF-46F7-AAA7-CC88D3A6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7C1-B0CA-45F4-9BE2-FB076A31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452-4AE9-44F6-9ED5-67BDC4DE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A02C-9C9F-4428-BE5B-A0C54E45B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: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: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908000" y="15573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1844640"/>
            <a:ext cx="107928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1844640"/>
            <a:ext cx="107964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: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1844640"/>
            <a:ext cx="107964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2360" y="1844640"/>
            <a:ext cx="107928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: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3860640"/>
            <a:ext cx="107928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3860640"/>
            <a:ext cx="107964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: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3933720"/>
            <a:ext cx="107964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72360" y="3933720"/>
            <a:ext cx="107928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: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6028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60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numbers would lie behind the ratios if they were ratios for a bag of 60 red and white ball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0:39:07Z</dcterms:created>
  <dc:creator>Teacher</dc:creator>
  <dc:description/>
  <dc:language>en-US</dc:language>
  <cp:lastModifiedBy>Teacher</cp:lastModifiedBy>
  <dcterms:modified xsi:type="dcterms:W3CDTF">2003-02-07T21:56:41Z</dcterms:modified>
  <cp:revision>3</cp:revision>
  <dc:subject/>
  <dc:title>Slide 1</dc:title>
</cp:coreProperties>
</file>