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7FE8-A277-4498-BA1F-47F93846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DB63-5E31-4F4E-AC8D-439A91BA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785E-E2FD-4D1E-AA1F-9CF20AE0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9CB7-8821-4030-AA37-16039499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F989-C1D9-4D60-985C-3EFAF620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FFD4-3574-462B-B363-3CE609A2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E7D6-F19B-40B1-9FB0-645FAAA8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6B3C-81F0-4BE7-A9AA-3629B953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6793-AFE3-4C50-A3C4-236A17F6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3669-98AC-4C9D-ADE4-C84DAE30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BC27-9F16-41AA-9091-E062D0C8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E5F9-D639-4374-AA2B-DF9BF244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FD30-12D0-497B-A54F-5A2432EC6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1197000"/>
            <a:ext cx="576360" cy="1477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03640" y="1197000"/>
            <a:ext cx="576360" cy="1477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19640" y="4508640"/>
            <a:ext cx="576360" cy="1477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76720" y="4508640"/>
            <a:ext cx="576000" cy="1477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437000"/>
            <a:ext cx="576360" cy="1477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32360" y="1197000"/>
            <a:ext cx="576360" cy="1477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36000" y="4508640"/>
            <a:ext cx="576000" cy="1477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08720" y="1125360"/>
            <a:ext cx="576360" cy="1477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19280" y="189000"/>
            <a:ext cx="6048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dering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9:33:46Z</dcterms:created>
  <dc:creator>Teacher</dc:creator>
  <dc:description/>
  <dc:language>en-US</dc:language>
  <cp:lastModifiedBy>Teacher</cp:lastModifiedBy>
  <dcterms:modified xsi:type="dcterms:W3CDTF">2003-03-25T19:35:14Z</dcterms:modified>
  <cp:revision>1</cp:revision>
  <dc:subject/>
  <dc:title>Slide 1</dc:title>
</cp:coreProperties>
</file>