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F94-E34B-4153-B946-D98A61AB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663-4503-45A9-939D-941212B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3BB-3B8E-4949-8EC5-D1593649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136-D8EA-4BD4-AE62-132B8AC7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2D7-3EB9-468E-9BBD-7E5C243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5C6-67A2-493A-B9E5-B6FF6160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C90-AA58-449F-B85D-7462554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8B3-BEBD-45AC-91F2-E010F06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61C-9CC3-489F-9B8F-3FEED89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FC2-A42E-459E-80B3-9ED698B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7E3-4532-4806-8BC6-FC8E8AB2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72A-C421-449F-B88F-79AB608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F0F-62E5-4DE3-BC57-EB82AA4B8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de these numbers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11:04Z</dcterms:created>
  <dc:creator>Teacher</dc:creator>
  <dc:description/>
  <dc:language>en-US</dc:language>
  <cp:lastModifiedBy>Teacher</cp:lastModifiedBy>
  <dcterms:modified xsi:type="dcterms:W3CDTF">2003-03-03T22:11:19Z</dcterms:modified>
  <cp:revision>1</cp:revision>
  <dc:subject/>
  <dc:title>Slide 1</dc:title>
</cp:coreProperties>
</file>