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A06-4029-4B60-BD68-D70BB849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A1E-FEEE-423D-B1DB-4FA37E0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B05-D97A-47C4-BA14-2EF45CDD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7F8-D30E-43CC-87CB-7D54B9F3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F89-7EAD-43B3-AF6F-C64273D5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AEB-7EE4-46E2-8374-550393F5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6AE-283E-4D5B-85C6-325355D1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CA2-65F2-46EA-84CC-D7795BC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00F-5965-4482-8B69-89008510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B9F-9D16-46CC-AE30-1A380C1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AF7-1CA2-4B2D-B6CB-12FC9D6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F9D-B2ED-4606-8A28-FD28B3D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A325-1006-483D-9E19-441EF7B1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484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413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29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8:12Z</dcterms:created>
  <dc:creator>Teacher</dc:creator>
  <dc:description/>
  <dc:language>en-US</dc:language>
  <cp:lastModifiedBy>Teacher</cp:lastModifiedBy>
  <dcterms:modified xsi:type="dcterms:W3CDTF">2003-03-25T19:58:37Z</dcterms:modified>
  <cp:revision>2</cp:revision>
  <dc:subject/>
  <dc:title>Slide 1</dc:title>
</cp:coreProperties>
</file>