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8543-EDA4-41E1-8044-352BB7425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C964-9D9B-4BE7-BBF0-03B054F9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4100-9457-4373-B321-12A99AC25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8FDC-1C46-4280-8DE5-7DB1ABEA6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5D1F-B90E-46E7-A39B-02B6F8A3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4A21-5699-47A3-AA50-047DBA62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BA34-3597-466C-8402-ED6E7CDE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B709-E682-4490-A69F-FC36CED4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9AED-BB8A-452A-9E5C-DBAEA4F4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7315-323A-45C7-B702-73ADBC40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294F-F904-4202-9DD9-AFAAE4EC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9E8A-AC18-401B-852D-E370312A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BBDC-27C9-4053-BCC0-6BF16A0C1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80880"/>
            <a:ext cx="845820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All Wrong – Multiplication</a:t>
            </a:r>
            <a:r>
              <a:rPr b="1" i="1" lang="en-US" sz="3600" spc="-1" strike="noStrike">
                <a:solidFill>
                  <a:srgbClr val="99ff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3520" y="1371600"/>
          <a:ext cx="8229600" cy="39402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840"/>
                <a:gridCol w="1645920"/>
                <a:gridCol w="1646280"/>
              </a:tblGrid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 x 20 = 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 x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5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 x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6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 x 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2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 x 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2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 x 20 = 15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 x 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2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 x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2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 x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97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 x 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6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609480" y="5715000"/>
            <a:ext cx="815364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Work out and explain what is wrong with each multiplication and find the correct 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27:58Z</dcterms:created>
  <dc:creator>ok</dc:creator>
  <dc:description/>
  <dc:language>en-US</dc:language>
  <cp:lastModifiedBy>ok</cp:lastModifiedBy>
  <dcterms:modified xsi:type="dcterms:W3CDTF">2003-08-27T15:36:24Z</dcterms:modified>
  <cp:revision>2</cp:revision>
  <dc:subject/>
  <dc:title>PowerPoint Presentation</dc:title>
</cp:coreProperties>
</file>