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424-4C73-4F9A-AA47-DAA53FC3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5A7-7CC4-42B6-AC18-C9A2939D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29C-C7E2-459D-94B9-2BFE439A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B0-6161-4B99-921E-A365676E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D45-41D3-4CA3-ADD2-13D60357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732-85DE-42BA-B842-C4ADE3CA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770-EEDC-4BC3-80A1-6AB08DB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CB3-A53B-492B-8316-E29E372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E7E-CCDA-4A3A-9048-C72EFFA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240-3BE4-4D19-AFD4-69A28FE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77C-1645-40A2-B85B-2C4517D7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CF4-E659-44A8-8061-B6A6AD2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6EE-9067-42B9-B60E-424398D4A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k Stone says – ‘Let’s work on Mixed Fractions, Year 6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144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      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  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99072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990720"/>
            <a:ext cx="152424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590920"/>
            <a:ext cx="1600200" cy="17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0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      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1:54:36Z</dcterms:created>
  <dc:creator>ok</dc:creator>
  <dc:description/>
  <dc:language>en-US</dc:language>
  <cp:lastModifiedBy>ok</cp:lastModifiedBy>
  <dcterms:modified xsi:type="dcterms:W3CDTF">2003-08-28T12:03:18Z</dcterms:modified>
  <cp:revision>1</cp:revision>
  <dc:subject/>
  <dc:title>PowerPoint Presentation</dc:title>
</cp:coreProperties>
</file>