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67E-5839-4359-9272-6E8E7AA7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D69-197F-4BCD-A779-13825F1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02A-C21D-42EF-B44F-421B9B33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1EF-F319-46ED-A763-71639676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CE9-3845-4E22-AA55-F2FB47E7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8B5-E99F-4A41-8874-9E17BAB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439-6EA3-467D-AA3D-5C92479B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698-D1D9-4597-BD9E-180CF7EF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DD9-5241-4271-A8BD-E40C5E24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966-582E-47E7-B1A0-93CB034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49E-A37A-4198-9A66-704F9A3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FC8-DAA7-4BCB-9242-4267324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BEF-2BE6-4DE4-8347-502AEECF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 – 1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12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773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56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28464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93372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581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338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 – 108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56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 – 11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8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0 – 3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60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2 – 13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0 – 1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60280"/>
            <a:ext cx="741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nd out what the correct answer should be for the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445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54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0 – 0.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2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42:34Z</dcterms:created>
  <dc:creator>Teacher</dc:creator>
  <dc:description/>
  <dc:language>en-US</dc:language>
  <cp:lastModifiedBy>Teacher</cp:lastModifiedBy>
  <dcterms:modified xsi:type="dcterms:W3CDTF">2003-02-12T20:27:44Z</dcterms:modified>
  <cp:revision>3</cp:revision>
  <dc:subject/>
  <dc:title>Slide 1</dc:title>
</cp:coreProperties>
</file>