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4F2-5A3F-4302-BD39-0DE2E261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610-7014-4CC6-9CA4-DF5C227A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031-7002-490D-8F5C-4D96370E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877-CA64-43AA-929E-0866846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976-6948-41E0-A10D-B7E466A6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3AE-DE4C-4BE3-A2AA-A57AD84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441-C2B8-44D0-9DB4-5A8FF1D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543-F5E7-4D2A-A614-F9C32F89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865-E715-4D1A-AFE2-ED86B458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E48-0511-4010-9BFD-F7A7DC3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1C6-BCB9-4C64-A345-B7400D5C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309-35C8-4765-AA03-3A78427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A6EA-A40D-4D14-996D-96AE9EE2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20:00:19Z</dcterms:modified>
  <cp:revision>3</cp:revision>
  <dc:subject/>
  <dc:title>Slide 1</dc:title>
</cp:coreProperties>
</file>