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A9A-E783-4950-B9C1-9CA0320D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31C-4E25-488B-8306-D69F4F1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F41-6065-4D92-86D2-F7626671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461-BF2D-4CBC-8BCE-22176835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2C2-B767-4AA7-A1FE-BAEBBA59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ACE-0283-4BF9-B0AF-18D39227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B05-2649-4EAB-8699-0B22E95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77F-0840-4E37-916A-13836F44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081-42C8-48A9-A18B-9C3D2631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FA8-076D-42EC-892C-0086D38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972-5A57-4807-AE7C-86A4392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8AA-969E-4E01-A045-950E5B29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3A7-F214-4A99-B968-DB9DC0772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all the correct answers on the RIGHT when dividing the numbers on the LEFT b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4464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844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781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789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3789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242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7242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7340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7340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1773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64500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645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5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508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8:24:35Z</dcterms:created>
  <dc:creator>Teacher</dc:creator>
  <dc:description/>
  <dc:language>en-US</dc:language>
  <cp:lastModifiedBy>Teacher</cp:lastModifiedBy>
  <dcterms:modified xsi:type="dcterms:W3CDTF">2003-03-05T08:29:18Z</dcterms:modified>
  <cp:revision>2</cp:revision>
  <dc:subject/>
  <dc:title>Slide 1</dc:title>
</cp:coreProperties>
</file>