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1103-DF19-4C60-ABBD-CD560193D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3B9C-5E70-4671-96BC-F8A73AC2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E37C-734B-4527-8C24-ACB6C13A0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7FFB-D019-412C-8B7C-121F2F102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57FB-7D03-4D80-AB2F-A662B905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AD4A-B700-4F36-9FEF-26420261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1C77-891D-4993-8554-A89173C1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0605-FAAE-4739-B1F4-C7E3CB95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3D43-A15B-4874-9B32-160BA786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357B-208C-4040-932E-21D62016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F566-60D0-48FF-AA9E-29EA622E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28E5-AB16-448E-91E4-9803DC3D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0B30-A350-4187-87CC-D814CA8F5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8077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rid Multiplication and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397160"/>
          <a:ext cx="7924320" cy="4546080"/>
        </p:xfrm>
        <a:graphic>
          <a:graphicData uri="http://schemas.openxmlformats.org/drawingml/2006/table">
            <a:tbl>
              <a:tblPr/>
              <a:tblGrid>
                <a:gridCol w="1584720"/>
                <a:gridCol w="1585080"/>
                <a:gridCol w="1584720"/>
                <a:gridCol w="1584720"/>
                <a:gridCol w="1585080"/>
              </a:tblGrid>
              <a:tr h="22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04920" y="6019920"/>
            <a:ext cx="8686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1992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ply each number by 8. Then divide it by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19:38Z</dcterms:created>
  <dc:creator>ok</dc:creator>
  <dc:description/>
  <dc:language>en-US</dc:language>
  <cp:lastModifiedBy>ok</cp:lastModifiedBy>
  <dcterms:modified xsi:type="dcterms:W3CDTF">2003-08-27T15:20:03Z</dcterms:modified>
  <cp:revision>1</cp:revision>
  <dc:subject/>
  <dc:title>PowerPoint Presentation</dc:title>
</cp:coreProperties>
</file>