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D6B-2743-455D-B571-1B305F1A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094-71C1-42E4-9B02-9630B81D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FD8-298B-4818-A741-8D7D8D56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7CE-B00D-448C-AD7E-5922ABA8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15A-8F9D-494D-B1A5-71E2B83C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F69-9A35-49AB-957D-839FC7D7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432-B29E-4631-B8D3-88C5A830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61E-3F9F-4B14-8FFD-F29C323C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F7D-2FBC-4D2E-8DB0-F06AE21E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CF4-45BC-4920-B4C9-DE1606E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755-BB87-462B-8A4B-8343D42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657-70EF-4378-B5CF-3A24D11F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A36F-2D14-425C-BDE7-DDFBCDDB37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ition and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066680"/>
          <a:ext cx="7925040" cy="5127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Makes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Makes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7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must we add to the first and third columns to make 1 or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8T12:24:27Z</dcterms:modified>
  <cp:revision>2</cp:revision>
  <dc:subject/>
  <dc:title>PowerPoint Presentation</dc:title>
</cp:coreProperties>
</file>