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EC8-7810-4519-8B3F-B2CE9426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4FD-B059-4306-8BD1-63FA688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00A-0566-40EA-AFA7-6CCC67C2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A34-B776-46A6-920F-8EF252E9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3A9-3B9F-4DA3-B7A2-8BF7587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D23-BB4A-4643-BA6E-AE829FB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6E5-8908-43E8-B883-D9DDC46C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274-3CFA-4C5D-B692-96414F5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64A-4E03-4CCC-91AE-4AFC7DBA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D9F-5E9B-4FE9-AE49-A8238DC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5E9-2DC8-40FE-9D7A-469B701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E81-2871-4AB3-8C51-8F671E6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449-31BC-4C9B-8BA6-FCDD3CE250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by 10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, such as 40, and then adding or subtracting to reach the number. Example: 40 multiplied by 3 is 120, take away 4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50:50Z</dcterms:modified>
  <cp:revision>4</cp:revision>
  <dc:subject/>
  <dc:title>PowerPoint Presentation</dc:title>
</cp:coreProperties>
</file>