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E16-B09C-4B84-8523-4EF9489D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32D-5F29-4667-8EA6-0F35FC30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A2F-09F9-49FB-98D6-A7F8E51D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816-ADD0-4748-89EC-18740C33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E82-6A14-4EBE-B3F7-75E6F5C6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7E2-C985-4425-80EE-5EB7F6D7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9CE-B7BA-4297-810E-9CAFC3CA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F1C-5113-47B4-85EB-24F8F5D7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05D-DA5B-4189-A68E-F0C11B32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C56-CFF6-4A47-BCC2-4E2BA89E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927-4746-485C-83E6-6DB7D65B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42E-C8DE-4271-92AA-05FD2418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0B0B-FED2-4668-99D3-FBA69C240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s – Finding halves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219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685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971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114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c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541008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b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685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1828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289548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o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962520"/>
            <a:ext cx="26668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o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c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5105520"/>
            <a:ext cx="26668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o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a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209680"/>
            <a:ext cx="2057400" cy="2531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number does each letter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19:20Z</dcterms:created>
  <dc:creator>ok</dc:creator>
  <dc:description/>
  <dc:language>en-US</dc:language>
  <cp:lastModifiedBy>ok</cp:lastModifiedBy>
  <dcterms:modified xsi:type="dcterms:W3CDTF">2003-08-27T16:19:33Z</dcterms:modified>
  <cp:revision>1</cp:revision>
  <dc:subject/>
  <dc:title>PowerPoint Presentation</dc:title>
</cp:coreProperties>
</file>