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86A-10F0-4BEC-8E44-044007D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9AC-FC2F-4AC8-9EB2-976BF18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0A9-B7B2-4566-8782-D4218C1E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BE2-EC85-41E9-B8BA-BBF36E50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248-2065-49AF-9EF4-3A30094B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DBD-A196-459C-B1AA-3D93717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CEF-782E-4D0E-AF29-970D317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47C-04BB-401F-AA33-E6801BB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9B2-944E-4027-9907-5346D863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823-1FE7-4E32-8ECF-1DF9553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2AB-E728-4470-8681-8EB91EA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BEE-EA31-4D6F-8EF6-FD2E801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3A3-93EB-4846-960C-C8B30355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4680" cy="4851000"/>
        </p:xfrm>
        <a:graphic>
          <a:graphicData uri="http://schemas.openxmlformats.org/drawingml/2006/table">
            <a:tbl>
              <a:tblPr/>
              <a:tblGrid>
                <a:gridCol w="1981440"/>
                <a:gridCol w="1980720"/>
                <a:gridCol w="1981080"/>
                <a:gridCol w="19814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5:27:32Z</dcterms:modified>
  <cp:revision>1</cp:revision>
  <dc:subject/>
  <dc:title>PowerPoint Presentation</dc:title>
</cp:coreProperties>
</file>