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134-CFED-4444-85DF-043E7A11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9C1-47C5-41F2-845C-0ED97AE3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B2A-8530-46E8-9361-45C8BBD3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8FC-2EEF-4BA3-A229-14C53E65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9A6-BEE3-496D-A620-1251F542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98E-8249-4024-9A9E-C54F73F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0DA-BC45-48BE-896E-703F592C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74E-7574-41AA-BCE1-F6DEAB82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4BF-BB0B-4E86-B113-C68BD3A1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5BA-9CEF-42EB-A281-913FF095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82C-28FD-437A-B252-015BCDE7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B00-80D1-492B-8F4A-99D888C3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6A9D-E5B4-43C9-97AD-36E2D77DF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Adding multiples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 + go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800600"/>
            <a:ext cx="4876920" cy="1810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o + gg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 + if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990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co + fh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go + igo = f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057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go + hgo = g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24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o + ego = d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o + ca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6:54:27Z</dcterms:modified>
  <cp:revision>2</cp:revision>
  <dc:subject/>
  <dc:title>PowerPoint Presentation</dc:title>
</cp:coreProperties>
</file>