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198-DE70-486C-B008-E6F6FED7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9AA-6055-4118-88C3-9EB07964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B65A-A8E3-4149-AF72-D9B1F782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E59-F356-4B4B-A3AA-3D3D5A7C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ACA-87E8-4CAF-869A-224D8302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ED8B-930E-4213-9E6E-F6BB4316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368-06BD-4325-BB06-E10DDE25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07B-4D0D-4E3A-830F-C63B7122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547-0DBF-421F-BDAE-407BDB8E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25D3-780B-4E58-B536-922BAF81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30B-8A30-4EF9-9C0F-720E0691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57C-4142-40D4-8952-E98A5123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CA12-66C5-487C-9FD5-F52904855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9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the Box -  Rounding Decimals to the nearest whol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must we add to the decimal numbers to reach the next whole number written bel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7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3352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8.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066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352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8T14:28:57Z</dcterms:modified>
  <cp:revision>5</cp:revision>
  <dc:subject/>
  <dc:title>PowerPoint Presentation</dc:title>
</cp:coreProperties>
</file>