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0C6-B1B8-4CE4-9361-165B7BB3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3CE-BD1C-445E-8519-8CA88B05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987-D320-479D-BC02-D9DE8F90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579-2F18-4073-A7D1-BF7C99D8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EF4-AD2F-4799-897E-947ABD72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4EE5-9B2B-4510-9D92-AF70D43C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BFE-E84C-4D55-BD70-94721AF5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767-0BCC-4CB8-A3D9-E79489D8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E8B-F7AF-4703-88A4-9527A388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9F9-AE34-41B0-80D0-64C77BF6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A65-8191-4D70-BFE8-25F63336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CE45-042A-438E-B434-4B1FDD2A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F0CA-6290-461B-AF1E-49BF7D4C1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s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116000" y="333360"/>
            <a:ext cx="73436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hat number do you need to add to get …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2133720"/>
            <a:ext cx="151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2852640"/>
            <a:ext cx="151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3500280"/>
            <a:ext cx="151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4221000"/>
            <a:ext cx="151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9280" y="4869000"/>
            <a:ext cx="151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2133720"/>
            <a:ext cx="1513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2852640"/>
            <a:ext cx="1513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3500280"/>
            <a:ext cx="1513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4221000"/>
            <a:ext cx="1513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4869000"/>
            <a:ext cx="1513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20:53:00Z</dcterms:created>
  <dc:creator>Teacher</dc:creator>
  <dc:description/>
  <dc:language>en-US</dc:language>
  <cp:lastModifiedBy>Teacher</cp:lastModifiedBy>
  <dcterms:modified xsi:type="dcterms:W3CDTF">2003-02-09T20:56:23Z</dcterms:modified>
  <cp:revision>2</cp:revision>
  <dc:subject/>
  <dc:title>Slide 1</dc:title>
</cp:coreProperties>
</file>