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BE4-02AC-4382-8660-ED838BCA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629-7DF2-4645-B94F-90CF3687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B2C-2BA4-4592-9DFD-17629D4F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606-8B5B-47DF-9E05-7079ACC1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6CE-4152-4D17-9C0E-DEDF2521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02F-B04E-4B82-B1AE-BCEC3A40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4C8-490B-4AEF-824E-D1AC19EC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488-EF24-4FDC-A07C-E8CE2089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11A-A3C9-456C-B10F-81A9F9D8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B0E-8FB2-4869-89DF-78E33D3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0EA-8710-4793-84A9-A4C73979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590-2E06-4D38-8A17-6E81DD8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E03B-3C9B-42DE-A91E-63AA98D21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rs each use a different amount of petrol. On average a car drives 160 km a week and the petrol it uses costs 80p per li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A : 30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B: 28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C: 25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29264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8km is equal to 5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litres is equal to 2 ga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5897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each car cost to run for one week? How much does it cost for one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06:48Z</dcterms:created>
  <dc:creator>Teacher</dc:creator>
  <dc:description/>
  <dc:language>en-US</dc:language>
  <cp:lastModifiedBy>Teacher</cp:lastModifiedBy>
  <dcterms:modified xsi:type="dcterms:W3CDTF">2003-02-23T14:06:57Z</dcterms:modified>
  <cp:revision>1</cp:revision>
  <dc:subject/>
  <dc:title>Three cars each use a different amount of petrol. On average a car drives 160 km a week and the petrol it uses costs 80p per litre. </dc:title>
</cp:coreProperties>
</file>