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CCE-FD2A-43C6-91CF-751AC53A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591-A714-4F95-8773-BB98990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77F-B7DE-4E48-BF5E-269FBC8F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39B-2ACE-4115-B42F-A6ABF5B1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0DE-9369-483C-BB6D-5CC63B3B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ACB-4411-4962-BB1D-D174207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4CE-83E9-4169-B6F7-A3840E0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F35-2210-4C7A-A9BE-3138AEB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8DE-BAF0-418D-AF10-4C500FB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B21-C1A7-4776-8C87-5F8A7B5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7A2-71FB-44D0-9563-7FECEE3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6C0-8957-41B3-86E8-CC344D2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0BD8-2C2C-468D-869F-5A9579B9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;18;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;24;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;9;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 ; 56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7; 42;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70;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; 42;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64;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; 40;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 ; 63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; 49;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; 24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0 ; 56;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9 ; 121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; 44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19:48:20Z</dcterms:modified>
  <cp:revision>2</cp:revision>
  <dc:subject/>
  <dc:title>Slide 1</dc:title>
</cp:coreProperties>
</file>