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E8B8-3482-470D-ABB5-82F9B4FA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7D2E-C276-4AEF-9974-F030548A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6309-46EF-4DE8-A86B-8D7B2B524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7EF9-940C-4061-BC2A-84E73656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9473-9F17-4E91-934D-B648F93C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E310-40BF-45FF-9508-4554D462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B93C-F2D3-425A-AC76-0735A19D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A25B-567C-4E1F-8AB8-9A3BE658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1009-39FB-4816-A0D7-B55B0678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793F-5A32-45B9-8933-81A02CC0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7E3B-A35C-41C3-808A-F99C6DB0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4D8A-570F-4B99-93AF-D2EAC7F0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888E-BB67-4086-9E8D-5AA5DEBA61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the Box -  Common Mult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320" cy="4546440"/>
        </p:xfrm>
        <a:graphic>
          <a:graphicData uri="http://schemas.openxmlformats.org/drawingml/2006/table">
            <a:tbl>
              <a:tblPr/>
              <a:tblGrid>
                <a:gridCol w="1584720"/>
                <a:gridCol w="1585080"/>
                <a:gridCol w="1584720"/>
                <a:gridCol w="1584720"/>
                <a:gridCol w="158508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914400" y="5791320"/>
            <a:ext cx="7620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is the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lowes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mon multiple, other than 1, for these two numbers? Lift the green cover to answer the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and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and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 and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 and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and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 and 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and 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 and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66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and 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and 2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7T17:42:10Z</dcterms:modified>
  <cp:revision>3</cp:revision>
  <dc:subject/>
  <dc:title>PowerPoint Presentation</dc:title>
</cp:coreProperties>
</file>