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FB22-9919-41E7-8915-22110AD2A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D7F9-151A-4FF0-B01D-56575EBCA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08CC-EFD9-4F8E-9AFA-30B6D555B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0AE9-DF94-4473-A0BE-C9888354D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5D44-1BDE-49BA-BBD4-BD9ED33F9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AE3D-7B59-412B-928C-DEDCFE86F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9677-A88B-4D24-BB17-1C6A7E73A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6B2C-B554-4571-89DA-1D219ED9C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580B-9AD4-44A1-AEA4-AD0CCFC5D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3906-9A99-493E-A2EF-B4BB18992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EB24-D0FA-4A4F-B227-2B33114AA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C742-6959-4626-8705-0F3718DD0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147BD-BA7B-4361-9191-96592AB2DF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09480" y="838080"/>
          <a:ext cx="8001000" cy="5638680"/>
        </p:xfrm>
        <a:graphic>
          <a:graphicData uri="http://schemas.openxmlformats.org/drawingml/2006/table">
            <a:tbl>
              <a:tblPr/>
              <a:tblGrid>
                <a:gridCol w="2000160"/>
                <a:gridCol w="2000520"/>
                <a:gridCol w="2000160"/>
                <a:gridCol w="2000160"/>
              </a:tblGrid>
              <a:tr h="208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7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74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77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6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185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59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93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08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67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170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9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48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06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1.68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2" name=""/>
          <p:cNvSpPr/>
          <p:nvPr/>
        </p:nvSpPr>
        <p:spPr>
          <a:xfrm>
            <a:off x="914400" y="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ounding Decimal Numb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7T14:50:12Z</dcterms:created>
  <dc:creator>ok</dc:creator>
  <dc:description/>
  <dc:language>en-US</dc:language>
  <cp:lastModifiedBy>ok</cp:lastModifiedBy>
  <dcterms:modified xsi:type="dcterms:W3CDTF">2003-08-27T14:51:05Z</dcterms:modified>
  <cp:revision>1</cp:revision>
  <dc:subject/>
  <dc:title>PowerPoint Presentation</dc:title>
</cp:coreProperties>
</file>