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127-4A10-4FEB-A4F7-A9892584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304-76FC-487A-BAAE-3DE90E97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186-39D9-4018-83E1-A1EAE0A4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117-F151-45C9-9617-469B3865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AFF-90B6-444A-940A-479EDB6D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9E5-A838-4F07-9594-375F96BF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968C-1046-446C-A704-A4D85BF2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CE4-4894-401B-A5DB-88FF3B31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A0F-F735-466B-B2E3-C2DBCB41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ED8-617F-41B5-9196-FEED0DD5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A07-1E88-4B30-975E-3FAD9FD6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632-F0AE-4927-A5B1-BA7CDF62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527A-D3EE-4D5A-979B-FCCFA46DB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838080"/>
          <a:ext cx="8001000" cy="5639040"/>
        </p:xfrm>
        <a:graphic>
          <a:graphicData uri="http://schemas.openxmlformats.org/drawingml/2006/table">
            <a:tbl>
              <a:tblPr/>
              <a:tblGrid>
                <a:gridCol w="1905120"/>
                <a:gridCol w="2095560"/>
                <a:gridCol w="2000160"/>
                <a:gridCol w="2000160"/>
              </a:tblGrid>
              <a:tr h="20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4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2.0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3.8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8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1.0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0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70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.0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8.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1.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3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85800" y="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viding a 2-digit Number by 10 and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5:03:53Z</dcterms:modified>
  <cp:revision>2</cp:revision>
  <dc:subject/>
  <dc:title>PowerPoint Presentation</dc:title>
</cp:coreProperties>
</file>