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F00-9F99-4CD1-8239-85D7AA6D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84D-8AB9-4ED4-8312-C1B89A3C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0CC-2085-40A0-923F-C0CB31B8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B9D-9F86-4729-9544-1D16A4E5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15D-0D48-476F-8396-A9FB3C40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3AD-DA47-4A5A-984C-EDC33765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7B9-B415-4063-8A2E-3DFE7B98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9EA-EDD8-4172-92C5-FCC5C8BD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052-EE52-441D-BC51-09E34F8E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B7E-9DA1-4DB0-B985-F5B57206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1B8-DAB3-41DC-B7AF-5B130AD2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35F-0B2E-4761-AC5A-B26951B5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35E4-86FA-4F81-A982-BDF1250DF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26828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has rows of beer that are 8 bottles wide and 6 bottles deep. If there are 13 rows in a crate, how many bottles are there in a c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3645000"/>
            <a:ext cx="720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has rows of beer that are 7 bottles wide and 5 bottles deep. If there are 12 rows in a crate, how many bottles would be lest in a crate if you had delivered 257 bott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weighs 210 kgs. If there 350 bottles on a crate, how much will one bottle weigh in gram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314172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costs £75. If there are 5 rows that are 10 bottles wide and 5 bottles deep, how much will one bottle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22:07:54Z</dcterms:created>
  <dc:creator>Teacher</dc:creator>
  <dc:description/>
  <dc:language>en-US</dc:language>
  <cp:lastModifiedBy>Teacher</cp:lastModifiedBy>
  <dcterms:modified xsi:type="dcterms:W3CDTF">2003-03-21T09:39:08Z</dcterms:modified>
  <cp:revision>2</cp:revision>
  <dc:subject/>
  <dc:title>Slide 1</dc:title>
</cp:coreProperties>
</file>