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CB4-7E69-4713-A0F4-69D66FB9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068-B9A4-4E6D-A6F7-CEC8A438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991-ACF0-4A21-AAA4-2288FFCF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53F-3617-49DF-833F-3EDFFA8A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C83-3346-4418-A17E-79BD0B19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BBF-B375-4EE1-891A-B5A4D0B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790-1DBB-44D5-ADD8-93BEF635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6CA-F658-4582-8866-133198B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E0F-91E2-4C14-B0B0-538D3CFE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C93-B88B-4781-B9F4-17E1C6F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018-574E-4888-B0E3-872B626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2EC-AABD-4541-9E6A-8673289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B1C-4991-4E54-8F0E-25FFF70BD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the answer below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9:53:36Z</dcterms:modified>
  <cp:revision>3</cp:revision>
  <dc:subject/>
  <dc:title>PowerPoint Presentation</dc:title>
</cp:coreProperties>
</file>