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76AE-0D2F-4EA8-9124-A9F17F192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9948-9E85-4A3C-ADAC-4A1D67FB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0252-16D1-4AD3-AF98-86A87D24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9C70-9707-4D70-88AC-0CE87D6E8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CF9B-51F8-471D-915C-48FB95B4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76BB-24A1-43F8-940C-F1C351D0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A8DC-4E75-4858-A212-17839E2E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73ED-80C7-4D94-9B2D-CF670521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18A4-3BC3-4036-858E-F54A86A6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9891-ADAF-42B9-AB54-DBEAB23E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8FEF-21B3-47A3-AE7C-EDD16B84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846F-C9ED-4D44-8ABC-9AFB3A6C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EEB1-7A7F-46A1-9A1D-E1B3477749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28600" y="0"/>
            <a:ext cx="9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plying and then adding and subtra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447920" y="2514600"/>
          <a:ext cx="6095880" cy="381924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38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0" y="990720"/>
            <a:ext cx="9144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a way of making each target number by multiplying a number and then adding or subtracting  a numbe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ess th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25 to reach the number. Example: 40 multiplied by 5 is 200, take away 7 equals 1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4:50:12Z</dcterms:created>
  <dc:creator>ok</dc:creator>
  <dc:description/>
  <dc:language>en-US</dc:language>
  <cp:lastModifiedBy>ok</cp:lastModifiedBy>
  <dcterms:modified xsi:type="dcterms:W3CDTF">2003-08-27T18:45:19Z</dcterms:modified>
  <cp:revision>5</cp:revision>
  <dc:subject/>
  <dc:title>PowerPoint Presentation</dc:title>
</cp:coreProperties>
</file>