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1FE-93D1-432D-B2E6-3669344C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585-A9E0-4913-82CF-88C27B48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C6C-D19F-4DB1-99D5-1C8E2018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33A-7D1C-4CA1-BFBF-192C53D3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A9F-5996-4800-9AC1-F61840CC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315-08DA-418D-AF08-F2004178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95C-8893-47FB-A5B5-396162EB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C1A-9DE3-49E9-B435-B2851DF1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632-ACC2-4286-BD19-C889C873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B4C-8D25-401F-B75B-FF4AC7E4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0B64-FF1A-40A2-99B0-B61B2C3A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669-BCC7-4540-AB84-BDDF7DA7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4A2F-178A-4096-B127-944E5575F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Mixed F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680" cy="45468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eighth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5911920"/>
            <a:ext cx="76201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is the answer below the question, either as an eighth or a quar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20:06:03Z</dcterms:modified>
  <cp:revision>4</cp:revision>
  <dc:subject/>
  <dc:title>PowerPoint Presentation</dc:title>
</cp:coreProperties>
</file>