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44E-7920-4392-AC8C-A482FDAD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C5B-8F07-4CA7-9ECF-2CF359A1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A71-716E-40F9-92AC-23E8FBCD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DB3-6C51-4C0B-9AE9-E830BAB4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CA3-E23F-4027-9DDF-BBC54A0A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8D2-3F27-4616-9599-8CC3B0A0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775-1047-4F8A-A42B-0F3A007A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AB8-CF33-4D63-990F-41D28F7E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926-7530-4EAC-81DD-84667C56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1B5-C7D2-4922-AAE6-4D56ACF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183-096F-4B26-B02D-20F23C37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C0A-C451-49BA-9BA5-178C4EB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94C-D818-4F6E-8673-5439E883FD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Divisible by 3,9 or 18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914400" y="5791320"/>
            <a:ext cx="7620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ich numbers can only be divided by 3; by 3 and 9; or by 3,9 or 18? Lift the green cover to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8:11:12Z</dcterms:modified>
  <cp:revision>4</cp:revision>
  <dc:subject/>
  <dc:title>PowerPoint Presentation</dc:title>
</cp:coreProperties>
</file>