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F7F-74FD-4C26-BE39-73323505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32B-44B1-446C-8D0D-5AB36A77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6CD-C171-4C8A-84F5-6B7D12C6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41D-C24E-49D3-B190-40AB0692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1A0-1935-4976-A829-C445D98F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5A4-1578-4AA1-8646-0AF967E2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05B-C5D8-4780-A4E4-E8F7CEC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05C-7707-4A25-8AB9-1D74596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C25-6643-4EE4-9B8E-78028627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F24-1E69-43EC-8AEA-CCCEF6A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C4C-D467-4025-BE17-0ED729C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8E1-38DD-4C3D-A971-17D260D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4149-EBC8-46D8-91B8-4BE29A611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Me by 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two digit number by a one digit number and then adding or subtracting  to reach the number. Example: 40 divided by 5 is 8, plus 5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8T14:51:24Z</dcterms:modified>
  <cp:revision>6</cp:revision>
  <dc:subject/>
  <dc:title>PowerPoint Presentation</dc:title>
</cp:coreProperties>
</file>