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6F8-32C8-4D72-93D0-25D4BE42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42E-ACE0-4C4E-86AA-E6A0E01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174-4679-4F3A-BE8B-F1E9D886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CE7-DC47-4312-A341-4D9C9576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D76-ACEE-4920-9385-E4831F1B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95C-5FF4-47ED-B3F4-9738FA4A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3AD-4D68-47BB-9DFE-FE9A61DC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5D4-A6D4-4C89-944E-12680480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289-6E67-4996-AFBD-38A3C819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7D2-FFAE-4506-A3AE-1822606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006-F53B-4E2E-914B-5C15A78F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013-6A5E-45CD-91D6-0AA9DC1B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C12E-1D40-49E3-90F1-35A97203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0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 =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9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f =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10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f =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d=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c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78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o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c 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io =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508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b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ho =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189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589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out what number each letter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01:46Z</dcterms:created>
  <dc:creator>Teacher</dc:creator>
  <dc:description/>
  <dc:language>en-US</dc:language>
  <cp:lastModifiedBy>Teacher</cp:lastModifiedBy>
  <dcterms:modified xsi:type="dcterms:W3CDTF">2003-03-03T22:02:21Z</dcterms:modified>
  <cp:revision>2</cp:revision>
  <dc:subject/>
  <dc:title>Slide 1</dc:title>
</cp:coreProperties>
</file>