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FF81-DBED-4DC5-A5BF-A29856307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7F97-AE53-4FD2-AEB1-285CE621D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9AFC-DF3F-4316-80F9-05560D5EB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F6D1-E620-43D6-9513-BDC13481C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871A-847C-470E-8C81-BC0A65A2D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0644-F00C-4B15-AA4D-00AB90181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EABE-862B-422A-8BB1-3BEFEBDE0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3F89-5694-4EAF-B8D6-D337ACA3B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82CA-09D1-4821-81D3-8ED76BFAA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D50A-7AF3-45AA-B8ED-9B3013885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C701-0069-4DF9-836C-56724A31E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9E54-5190-406E-A0FD-862C8A63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E1D15-EE7E-4933-BFE3-2317E43E1B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98100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.21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843280" y="98100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716360" y="9810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867280" y="98100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92360" y="907920"/>
            <a:ext cx="935280" cy="5050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87280" y="1844640"/>
            <a:ext cx="935280" cy="504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184464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19640" y="191628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.10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43280" y="191628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867280" y="270828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84720" y="184464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781360"/>
            <a:ext cx="934920" cy="504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43280" y="270828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278136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71640" y="278136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6.08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348000" y="400536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.21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4005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867280" y="386064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400536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87280" y="4005360"/>
            <a:ext cx="935280" cy="504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19640" y="4941720"/>
            <a:ext cx="934920" cy="5050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49417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2000" y="48690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494172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00000" y="494172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.44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71640" y="189000"/>
            <a:ext cx="7345440" cy="703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cc00"/>
                </a:solidFill>
                <a:latin typeface="Arial"/>
              </a:rPr>
              <a:t>Round 2 place decimal numbers to the nearest whole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9T21:08:05Z</dcterms:created>
  <dc:creator>Teacher</dc:creator>
  <dc:description/>
  <dc:language>en-US</dc:language>
  <cp:lastModifiedBy>Teacher</cp:lastModifiedBy>
  <dcterms:modified xsi:type="dcterms:W3CDTF">2003-02-09T21:18:40Z</dcterms:modified>
  <cp:revision>2</cp:revision>
  <dc:subject/>
  <dc:title>Slide 1</dc:title>
</cp:coreProperties>
</file>