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1B8-6A20-470D-B7E1-0AC0571E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375-5094-4FF5-9781-A00B3EEA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BD6-8914-4A13-9993-B3F5FE1E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47D-EAAD-47B2-9917-F7F4482B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458-E78C-4F8B-B128-9B1519E0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CDD-97D1-4E5D-9339-B49DAFC2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6BD-90DC-4187-8849-CB14B10A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6DA-5352-4DC7-9EB8-1D6D6F18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336-7E4D-4106-BEAB-D4CF8CF5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B51-2D30-4534-BBBE-A168B99E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FF0-F5DB-407F-997F-60FAB761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3F6-C064-47F4-B04C-CAA9AEE9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F7D3-3A60-4655-9132-1977079DE7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Factors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78008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32, 2, 16, 4,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40, 2, 20, 4, 10, 5,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18, 2, 9, 3, 6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100, 2,50, 4, 25, 5, 20, 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8,2,14,4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5,5,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5,5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8,2,34,4,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are all the factors of the numbers on the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352680"/>
            <a:ext cx="16002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4:47:18Z</dcterms:modified>
  <cp:revision>6</cp:revision>
  <dc:subject/>
  <dc:title>PowerPoint Presentation</dc:title>
</cp:coreProperties>
</file>