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442-3459-4EC2-A9BB-B83326D2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20C-1201-4434-AF29-8A2D5836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518-1B39-4EAE-9795-39F8E45F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0224-AF3E-4338-BD4D-C7F55F13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FD5-FE11-48B5-8716-434C14E2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6CD-4B05-4C7E-8FDE-059F6161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0C5-CD0C-443B-82B3-B9596059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C84-DAF8-4DCC-BF07-F813CC2B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102-BD91-4408-B5C9-6DDC0F56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2F9-204B-43EC-A51C-9F9F9BA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34E-C6FE-4C17-B919-28D13B25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D8D-2422-4B24-82F0-73B5BD37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7435-937E-4F6A-B464-A48EF1A3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2920" cy="1470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ime would you arrive in each city if you left Heathrow airport at 9:00 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205000"/>
          <a:ext cx="8351640" cy="3255840"/>
        </p:xfrm>
        <a:graphic>
          <a:graphicData uri="http://schemas.openxmlformats.org/drawingml/2006/table">
            <a:tbl>
              <a:tblPr/>
              <a:tblGrid>
                <a:gridCol w="1193760"/>
                <a:gridCol w="1192320"/>
                <a:gridCol w="1423800"/>
                <a:gridCol w="961920"/>
                <a:gridCol w="1308240"/>
                <a:gridCol w="1077840"/>
                <a:gridCol w="1193760"/>
              </a:tblGrid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Y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Franc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c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j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 h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.5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igh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26:42Z</dcterms:created>
  <dc:creator>Teacher</dc:creator>
  <dc:description/>
  <dc:language>en-US</dc:language>
  <cp:lastModifiedBy>Teacher</cp:lastModifiedBy>
  <dcterms:modified xsi:type="dcterms:W3CDTF">2003-02-23T14:36:43Z</dcterms:modified>
  <cp:revision>2</cp:revision>
  <dc:subject/>
  <dc:title>What time would you arrive in each city if you left Heathrow airport at 9:00 am?</dc:title>
</cp:coreProperties>
</file>