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8B8-8526-4E4F-953D-A421A171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3A87-307D-46A0-B923-D3D56DAD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99E-D777-4172-828C-09124496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BD00-954F-468A-A169-1E87B4DC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940-E358-4EF4-9AB3-992E7273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D02E-3E1B-42FE-B286-9677C129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06D1-0380-4041-BE6A-DF311902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238F-5F88-4D36-867E-A6760370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CB3-A837-485B-A65F-A349800A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A353-B79C-4962-9C5E-D168A5CD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A2A3-4AC4-4E7C-A702-3C97E8B5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083-7DD8-4216-8EAA-DF6EE756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903C-83B4-4433-919B-E8E678B213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04920"/>
            <a:ext cx="81532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ng Numbers - Sub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295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Times New Roman"/>
              </a:rPr>
              <a:t>613 x 2 = 1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3716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13716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209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257 x 3  =    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22860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200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368 x 2  = 7   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2767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114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415 x 3 = 1         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191120"/>
            <a:ext cx="38088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4191120"/>
            <a:ext cx="38088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029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922 x 2 =  1      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5105520"/>
            <a:ext cx="38088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867280"/>
            <a:ext cx="9144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find out what the missing digits are for these multiplic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1295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837 x 3  = 26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86600" y="13716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2209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561 x 2 =            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660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3124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498 x 3 = 1      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32004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4038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113 x 2 =      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41148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41148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4952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709 x 3 = 2     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50292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50292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7:13:47Z</dcterms:created>
  <dc:creator>ok</dc:creator>
  <dc:description/>
  <dc:language>en-US</dc:language>
  <cp:lastModifiedBy>ok</cp:lastModifiedBy>
  <dcterms:modified xsi:type="dcterms:W3CDTF">2003-08-27T18:41:48Z</dcterms:modified>
  <cp:revision>2</cp:revision>
  <dc:subject/>
  <dc:title>PowerPoint Presentation</dc:title>
</cp:coreProperties>
</file>