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10E-1C84-41F6-92AF-D1C1C46A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308-6C3E-4C47-8EB3-444641D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B74-1C77-4C76-B786-44DA67E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41E-E467-4863-A9B6-105003CE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F1E-C728-4C1F-A573-BF530D4D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475-B518-4B21-BD17-5D38EB25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710-6399-49AD-876B-278195A2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1C4-00D7-4501-8250-D94AE31F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4E0-2FFE-475B-AFF2-38D6909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A27-2720-4EF3-AF05-A3C795B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78A-0E8D-4629-A728-6C64D7A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45A-5769-486C-B3B0-5DF2752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A719-C5AE-4066-9291-62F78C052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Grid Fractions – Fractions and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8076960" cy="4546080"/>
        </p:xfrm>
        <a:graphic>
          <a:graphicData uri="http://schemas.openxmlformats.org/drawingml/2006/table">
            <a:tbl>
              <a:tblPr/>
              <a:tblGrid>
                <a:gridCol w="1615320"/>
                <a:gridCol w="1615680"/>
                <a:gridCol w="1614960"/>
                <a:gridCol w="1615680"/>
                <a:gridCol w="161532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33:10Z</dcterms:created>
  <dc:creator>ok</dc:creator>
  <dc:description/>
  <dc:language>en-US</dc:language>
  <cp:lastModifiedBy>ok</cp:lastModifiedBy>
  <dcterms:modified xsi:type="dcterms:W3CDTF">2003-08-27T16:33:38Z</dcterms:modified>
  <cp:revision>1</cp:revision>
  <dc:subject/>
  <dc:title>PowerPoint Presentation</dc:title>
</cp:coreProperties>
</file>