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254-E5CA-4FE1-8568-6F69B8C8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42C-9066-45CD-99DB-0027F385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38A-9811-40A7-B969-987816A9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360-D38B-495E-9CA5-94621222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097-CF96-41AA-9DEB-A24EB411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ABC-B803-4C58-B825-D557D05B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5C4-6EAF-42D5-BE87-903EC348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7EB-D1A6-4850-B7CC-6C57D87F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95F-83C6-4592-8064-4BEE433A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B4E-B369-4268-A3CD-86E326A5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9D4-6F32-4FAA-A16C-A2E247C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F26-3791-4185-9FC6-B97FB528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B48B-4FC7-4D2F-9629-3C5FD07463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Addition and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0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16002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838080"/>
            <a:ext cx="144792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13716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subtracting,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83808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8T12:16:52Z</dcterms:modified>
  <cp:revision>3</cp:revision>
  <dc:subject/>
  <dc:title>PowerPoint Presentation</dc:title>
</cp:coreProperties>
</file>