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05D-46C3-48AE-BC67-23ECDE11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371-690B-4E40-8078-C2D8A8DC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F99-6D0F-4CD3-998C-3B2BE5F9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D7B-DCF7-43B4-A432-786ED14A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B6E-0817-4488-BE18-CEDD8B35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AC1-C502-4CAA-8475-CCA431D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E10-7245-4F5F-926F-0E9D037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FE5-6ADE-46B3-A764-2878AA3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379-3043-4760-85A8-6F6E3BD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A77-CD1A-4919-AD78-F1A8CEE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BF5-9E49-4B6F-993D-AE3884D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B4A-A53C-4ACA-A233-873525B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1448-22E4-40C9-9C6E-7663C2BFAC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x h =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x f = 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x a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 x h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x c = f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i =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x c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886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d =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57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x c = b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9:34:44Z</dcterms:modified>
  <cp:revision>3</cp:revision>
  <dc:subject/>
  <dc:title>PowerPoint Presentation</dc:title>
</cp:coreProperties>
</file>