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0DC-40CB-41CA-A0A5-EA0CD1C6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D067-FCD8-4AB6-8687-4FA34D6A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6BB-9DE1-4B0B-A746-C2BE7043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0C5-B610-4594-856F-52418ED1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957-81E4-4FD3-B5C4-A8291276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559-811E-41E5-8BE0-FC148669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ABC-A6A2-4DE6-AC05-39650E8B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47E-BBC3-4890-B697-56AE34C3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B56-3547-4459-8F2B-21205DAE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3CC-EB23-4D7B-B7BB-FE79C8F1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2DF-DD77-47F8-9C6F-B946D2A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BCF-3515-4BE5-A306-14278B8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71DD-EC78-4674-BEA4-22F096B7B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47628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coins below will still be available tomorrow morning. However, the 1p coin will be withdrawn after today. Which amounts of money will it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make in the mo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2565360"/>
            <a:ext cx="936720" cy="1008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285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708280"/>
            <a:ext cx="792000" cy="720720"/>
          </a:xfrm>
          <a:prstGeom prst="octagon">
            <a:avLst>
              <a:gd name="adj" fmla="val 292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285264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4221000"/>
            <a:ext cx="1081080" cy="1224000"/>
          </a:xfrm>
          <a:prstGeom prst="donut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5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£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4076640"/>
            <a:ext cx="1224000" cy="1368360"/>
          </a:xfrm>
          <a:prstGeom prst="octagon">
            <a:avLst>
              <a:gd name="adj" fmla="val 292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2565360"/>
            <a:ext cx="865440" cy="863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1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3933720"/>
            <a:ext cx="1440000" cy="1366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50:32Z</dcterms:created>
  <dc:creator>Teacher</dc:creator>
  <dc:description/>
  <dc:language>en-US</dc:language>
  <cp:lastModifiedBy>Teacher</cp:lastModifiedBy>
  <dcterms:modified xsi:type="dcterms:W3CDTF">2003-02-23T13:54:04Z</dcterms:modified>
  <cp:revision>2</cp:revision>
  <dc:subject/>
  <dc:title>Slide 1</dc:title>
</cp:coreProperties>
</file>