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4F5-1FFC-4F5D-8155-B8F69F2A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A71-C46F-4239-8423-A2F2EB9F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4E2-C7E8-4007-B41F-449E2DF6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835-7053-4598-B35F-625C38AD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FE9-31D4-4EDC-9FA0-54A3C544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EE9F-702A-44AC-AE1D-491938F9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2A7-F7E0-41E9-9843-87DFFBBB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ADD-41CC-4EC9-B1A4-C226469C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2BB-A397-4145-8B49-9ECD90AF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D74-0573-4D32-84CF-9116FD23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094-A5F5-4BC8-BA24-96995D1F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49A-CF70-4AA5-94EE-BEFFA3AB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E253-5CB0-4041-AC56-48D0979DC6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73911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des – Multiplication to 10 x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219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914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.b + c.a = 6.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5334120"/>
            <a:ext cx="8076960" cy="132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git does each letter repres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e – o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c + d.d 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124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.b + o.e =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90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.d  + o.c =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962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.e + a.c = d.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057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.i + e.f 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31240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.g + o.a = 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19:20Z</dcterms:created>
  <dc:creator>ok</dc:creator>
  <dc:description/>
  <dc:language>en-US</dc:language>
  <cp:lastModifiedBy>ok</cp:lastModifiedBy>
  <dcterms:modified xsi:type="dcterms:W3CDTF">2003-08-28T14:35:37Z</dcterms:modified>
  <cp:revision>4</cp:revision>
  <dc:subject/>
  <dc:title>PowerPoint Presentation</dc:title>
</cp:coreProperties>
</file>