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6E9-7B65-48AB-ACF6-53888A52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5D3-CD9B-4629-A3E8-9DF82D1F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F72-A8A5-4047-B34F-8542E095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AF7-E56A-49BC-A167-2EB5BFBB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489-1349-428A-B915-5A4CEA94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21A-A7A5-4B4C-9F72-8906A37B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F2B-F7BA-4298-A8D6-A1C90152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722-C44D-4BE2-ABDF-BEAB5C0B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229-7D67-4757-A7EF-882CE323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942-CE32-44AF-8D0D-3F08DA34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6F6-91E6-49CF-A3F6-86D5402D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954-113B-4329-A6B2-F9DF7855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1DCF-6333-4F37-B876-90F4B3A26A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8487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Wrong -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320 - 180 = 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Find the correct answers for these subtractions, showing how you found the answer for each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20 - 170 = 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620 - 230 = 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940 - 180 = 5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50 - 210 = 4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730 - 570 = 2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80 - 190 = 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40 - 170 = 3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30 - 160 = 3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890 - 380 = 7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9:46:19Z</dcterms:created>
  <dc:creator>ok</dc:creator>
  <dc:description/>
  <dc:language>en-US</dc:language>
  <cp:lastModifiedBy>ok</cp:lastModifiedBy>
  <dcterms:modified xsi:type="dcterms:W3CDTF">2003-08-28T12:33:07Z</dcterms:modified>
  <cp:revision>2</cp:revision>
  <dc:subject/>
  <dc:title>PowerPoint Presentation</dc:title>
</cp:coreProperties>
</file>