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599-6D7D-4326-BE44-37306F1C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6F4-DDBE-424C-B9FB-29D2AA2F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D76-F35B-475E-8A87-B3875FBD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4DF-27AC-4978-A519-1F43AAF2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559-E695-4596-88CB-8D99586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342-6887-4CD9-877E-64FE4550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B9A-C59D-4144-96BE-85B7371C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957-B1B1-44A0-9737-5B8B9B3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78E-C8FD-4F17-B2D4-9760D7B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110-5C20-4932-8B4E-E3BB1EF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E7F-76A2-4E5F-80E9-C322355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9C3-4270-462F-B38A-67B2BD0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D07-FE3C-4F32-B80D-64F8691F60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Addition of negativ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e a number line to help you find the answers to these additions, then lift the top card to 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+ -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 + -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 + 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+ 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+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8 +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 +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13 +7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5:00:41Z</dcterms:modified>
  <cp:revision>7</cp:revision>
  <dc:subject/>
  <dc:title>PowerPoint Presentation</dc:title>
</cp:coreProperties>
</file>