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A6D-455C-4444-8043-D615A017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A43-4F46-49C0-8502-18576D31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133-0175-47A9-AFE3-3B9A5978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7B2-B9ED-4206-A601-D2FFD7D5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DCA-5050-4333-ACF4-4E9938D8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6AF-9230-4554-957C-D6C3388C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8A2-F964-4BAB-8806-89B299A9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B2D-700A-4E3D-9180-F652D9E0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90C-22D1-427E-A381-11623097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748-F10B-445D-A63C-6E8D7F9E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807-C423-44AA-AC4A-A1E79F93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EA2-C5F0-4D6D-8B91-1C5F6941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ECBA-3AC5-4104-BBBD-5A0143534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16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 curtain factory orders 2.5km of ribbon. They get a discount of 10% for a bulk order. How much do they pay for th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£110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£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£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£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you make a similar word problem of your own that uses metric lengths or weights and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35:28Z</dcterms:created>
  <dc:creator>Teacher</dc:creator>
  <dc:description/>
  <dc:language>en-US</dc:language>
  <cp:lastModifiedBy>Teacher</cp:lastModifiedBy>
  <dcterms:modified xsi:type="dcterms:W3CDTF">2003-02-23T14:35:36Z</dcterms:modified>
  <cp:revision>1</cp:revision>
  <dc:subject/>
  <dc:title>A  curtain factory orders 2.5km of ribbon. They get a discount of 10% for a bulk order. How much do they pay for the order?</dc:title>
</cp:coreProperties>
</file>