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7.gif" ContentType="image/gif"/>
  <Override PartName="/ppt/media/image26.gif" ContentType="image/gif"/>
  <Override PartName="/ppt/media/image13.gif" ContentType="image/gif"/>
  <Override PartName="/ppt/media/image23.gif" ContentType="image/gif"/>
  <Override PartName="/ppt/media/image29.gif" ContentType="image/gif"/>
  <Override PartName="/ppt/media/image6.gif" ContentType="image/gif"/>
  <Override PartName="/ppt/media/image7.jpeg" ContentType="image/jpeg"/>
  <Override PartName="/ppt/media/image9.gif" ContentType="image/gif"/>
  <Override PartName="/ppt/media/image10.gif" ContentType="image/gif"/>
  <Override PartName="/ppt/media/image11.wmf" ContentType="image/x-wmf"/>
  <Override PartName="/ppt/media/image15.gif" ContentType="image/gif"/>
  <Override PartName="/ppt/media/image5.jpeg" ContentType="image/jpeg"/>
  <Override PartName="/ppt/media/image3.jpeg" ContentType="image/jpeg"/>
  <Override PartName="/ppt/media/image12.gif" ContentType="image/gif"/>
  <Override PartName="/ppt/media/image30.gif" ContentType="image/gif"/>
  <Override PartName="/ppt/media/image8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31.jpeg" ContentType="image/jpeg"/>
  <Override PartName="/ppt/media/image14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32.jpeg" ContentType="image/jpeg"/>
  <Override PartName="/ppt/media/image24.gif" ContentType="image/gif"/>
  <Override PartName="/ppt/media/image25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C5F-F8CA-47AE-AD5A-5A720568C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047-3B10-4F84-A692-154F7AB0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D55C-8DBD-4B7D-8589-5CA0A8A7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473-C853-441B-9052-1EF2BDF3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BCB-AF76-4B54-B3E1-7AC638A8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65D-E04D-4775-99F1-4D29C24A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5C05-8883-4900-844B-1C19927F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830-B9F0-43EE-942E-BF5F17C9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F3E-0036-437B-A8F5-06CD2C92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EB7F-B496-4264-8314-C1E0B176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A80-19A3-4444-8DC1-2F41E7AE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0E1-7392-4DFA-8684-2C6A592B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8509-59A1-4CEF-9C69-900BCA9DF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hp?hl=en" TargetMode="External"/><Relationship Id="rId2" Type="http://schemas.openxmlformats.org/officeDocument/2006/relationships/hyperlink" Target="http://www.holyspiritinteractive.net/kids/questions/die.gif" TargetMode="External"/><Relationship Id="rId3" Type="http://schemas.openxmlformats.org/officeDocument/2006/relationships/hyperlink" Target="http://www.holyspiritinteractive.net/kids/questions/die.gif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beginning God created the heaven and the earth. But the earth had no shape. It was empty, covered with only darkness an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 the fifth day God made the whales and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42920" y="4221000"/>
            <a:ext cx="2016360" cy="1501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1872000" cy="1455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58920" y="2205000"/>
            <a:ext cx="2303280" cy="1488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796000" y="400536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the bi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1352880" cy="1342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164360" y="1989000"/>
            <a:ext cx="1295280" cy="1092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1873440" cy="1162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1119240" cy="144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877080" y="3789360"/>
            <a:ext cx="1440000" cy="1270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2843280" y="2276640"/>
            <a:ext cx="1272960" cy="1296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987640" y="4581360"/>
            <a:ext cx="1049400" cy="1152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4932360" y="4076640"/>
            <a:ext cx="1584360" cy="109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the sixth day God made all of the animals and insects. God saw that it was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1295640" cy="1030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00720" y="1989000"/>
            <a:ext cx="1440000" cy="1049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84360" y="4149720"/>
            <a:ext cx="1439640" cy="1212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584280" cy="10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067280" y="4581360"/>
            <a:ext cx="1360440" cy="76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1377720" cy="1109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the sixth day God also created Adam and 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2654280" cy="1144440"/>
        </p:xfrm>
        <a:graphic>
          <a:graphicData uri="http://schemas.openxmlformats.org/drawingml/2006/table">
            <a:tbl>
              <a:tblPr/>
              <a:tblGrid>
                <a:gridCol w="1708200"/>
                <a:gridCol w="946080"/>
              </a:tblGrid>
              <a:tr h="114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  </a:t>
                      </a: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  </a:t>
                      </a:r>
                      <a:r>
                        <a:rPr b="0" lang="en-US" sz="5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2349360"/>
            <a:ext cx="2138400" cy="251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the last day, the seventh day, God rested and saw that all He had created was g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river"/>
          <p:cNvPicPr/>
          <p:nvPr/>
        </p:nvPicPr>
        <p:blipFill>
          <a:blip r:embed="rId1"/>
          <a:stretch/>
        </p:blipFill>
        <p:spPr>
          <a:xfrm>
            <a:off x="1547640" y="1773360"/>
            <a:ext cx="5616720" cy="4213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n the Spirit of God hovered over the water and God said, ‘Let there be light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9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22360" y="800280"/>
            <a:ext cx="190800" cy="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4249800" cy="3398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n God divided the light from the darkness and He called the light the daytime and the darkness He called night time. This was the first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1701720"/>
            <a:ext cx="6624720" cy="4416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od divided the waters below from the waters above to make the sky and the sea. This was the second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1347840"/>
            <a:ext cx="7416720" cy="4740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this God said, "Let the water under the heaven be gathered together in one pl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87280" y="1698480"/>
            <a:ext cx="7056720" cy="3962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let the dry land appear," and it happene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7920000" cy="359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he third day God said, "Let the earth produce grass, and plants, and fruit trees," and it happened; And God saw that it was go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32000" y="2565360"/>
            <a:ext cx="2232000" cy="2090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1943280" cy="215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156360" y="2421000"/>
            <a:ext cx="2519280" cy="3095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the fourth day God made two great lights; the sun to rule b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3313080" cy="4319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the moon to rule by night. He also made the st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3970440" cy="417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8:50:03Z</dcterms:created>
  <dc:creator>Lynn Medland</dc:creator>
  <dc:description/>
  <dc:language>en-US</dc:language>
  <cp:lastModifiedBy>Mike Freedman</cp:lastModifiedBy>
  <dcterms:modified xsi:type="dcterms:W3CDTF">2006-06-18T13:07:03Z</dcterms:modified>
  <cp:revision>9</cp:revision>
  <dc:subject/>
  <dc:title>In the beginning God created the heaven and the earth.</dc:title>
</cp:coreProperties>
</file>