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2C44-A8E8-4EFF-98D1-C2460625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26B3-BA70-4008-AD8C-FA4BADCA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16CF-F3D1-432E-85B2-27327A2F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7F47-B03D-4689-93E7-15B56F77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3716-FE89-4079-AD00-709FB544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54F-AD34-4A6E-81A1-A30957DC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1FE-7A98-4C95-B608-B0504EC1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836-9805-47FA-8ED6-5807CC73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2EB-81AF-4179-8DBE-32697CED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61B-2CBC-457A-B74C-D897A927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2878-46CC-4F89-B793-7D8A7B9B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0D8-2A6A-4F9E-A63D-5C4672B9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08D5-95A3-452D-BE71-DDEB9E6F4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1.511.telia.com/~u51102888/anims/office/filecabinett.gif" TargetMode="Externa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free/children/playground_variant_page_merry_go_round.html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1.511.telia.com/~u51102888/anims/cartoon6/hamm_anm.gif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1.511.telia.com/~u51102888/anims/cartoon6/pira_anm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1.511.telia.com/~u51102888/anims/food1/coffeecup.gif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free/people_m_z/vikings_variant_page_vikings_fighting.html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bmx_bike_pedaling_md_clr.gif"/>
          <p:cNvPicPr/>
          <p:nvPr/>
        </p:nvPicPr>
        <p:blipFill>
          <a:blip r:embed="rId1"/>
          <a:stretch/>
        </p:blipFill>
        <p:spPr>
          <a:xfrm>
            <a:off x="2438280" y="1371600"/>
            <a:ext cx="4114800" cy="3497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335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make a bike go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5029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part of your body do you use ?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66680" y="45720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2871720"/>
            <a:ext cx="9144000" cy="1114560"/>
            <a:chOff x="0" y="2871720"/>
            <a:chExt cx="9144000" cy="1114560"/>
          </a:xfrm>
        </p:grpSpPr>
        <p:sp>
          <p:nvSpPr>
            <p:cNvPr id="49" name=""/>
            <p:cNvSpPr/>
            <p:nvPr/>
          </p:nvSpPr>
          <p:spPr>
            <a:xfrm>
              <a:off x="0" y="287172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0" y="2871720"/>
              <a:ext cx="9144000" cy="1114560"/>
              <a:chOff x="0" y="2871720"/>
              <a:chExt cx="9144000" cy="1114560"/>
            </a:xfrm>
          </p:grpSpPr>
          <p:sp>
            <p:nvSpPr>
              <p:cNvPr id="51" name=""/>
              <p:cNvSpPr/>
              <p:nvPr/>
            </p:nvSpPr>
            <p:spPr>
              <a:xfrm>
                <a:off x="0" y="287172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2871720"/>
                <a:ext cx="9144000" cy="11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6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filecabinett.gif - 11514 By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133720"/>
            <a:ext cx="4876560" cy="3770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do you use to open a drawer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160020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train"/>
          <p:cNvPicPr/>
          <p:nvPr/>
        </p:nvPicPr>
        <p:blipFill>
          <a:blip r:embed="rId1"/>
          <a:stretch/>
        </p:blipFill>
        <p:spPr>
          <a:xfrm>
            <a:off x="1600200" y="2743200"/>
            <a:ext cx="6261120" cy="3710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would you use to make this train go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66680" y="160020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96960" y="2606760"/>
            <a:ext cx="7750080" cy="1861200"/>
            <a:chOff x="696960" y="2606760"/>
            <a:chExt cx="7750080" cy="1861200"/>
          </a:xfrm>
        </p:grpSpPr>
        <p:sp>
          <p:nvSpPr>
            <p:cNvPr id="156" name=""/>
            <p:cNvSpPr/>
            <p:nvPr/>
          </p:nvSpPr>
          <p:spPr>
            <a:xfrm>
              <a:off x="696960" y="2606760"/>
              <a:ext cx="775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6960" y="2606760"/>
              <a:ext cx="2349360" cy="18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7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book_page_flip_md_clr.gif"/>
          <p:cNvPicPr/>
          <p:nvPr/>
        </p:nvPicPr>
        <p:blipFill>
          <a:blip r:embed="rId1"/>
          <a:stretch/>
        </p:blipFill>
        <p:spPr>
          <a:xfrm>
            <a:off x="2514600" y="2057400"/>
            <a:ext cx="4114800" cy="3635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would you use to turn the pages in this book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447920" y="2057400"/>
            <a:ext cx="6476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96960" y="2606760"/>
            <a:ext cx="7750080" cy="1861200"/>
            <a:chOff x="696960" y="2606760"/>
            <a:chExt cx="7750080" cy="1861200"/>
          </a:xfrm>
        </p:grpSpPr>
        <p:sp>
          <p:nvSpPr>
            <p:cNvPr id="167" name=""/>
            <p:cNvSpPr/>
            <p:nvPr/>
          </p:nvSpPr>
          <p:spPr>
            <a:xfrm>
              <a:off x="696960" y="2606760"/>
              <a:ext cx="775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6960" y="2606760"/>
              <a:ext cx="2349360" cy="18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7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96960" y="2606760"/>
            <a:ext cx="7750080" cy="1800360"/>
            <a:chOff x="696960" y="2606760"/>
            <a:chExt cx="7750080" cy="1800360"/>
          </a:xfrm>
        </p:grpSpPr>
        <p:sp>
          <p:nvSpPr>
            <p:cNvPr id="170" name=""/>
            <p:cNvSpPr/>
            <p:nvPr/>
          </p:nvSpPr>
          <p:spPr>
            <a:xfrm>
              <a:off x="696960" y="2606760"/>
              <a:ext cx="775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6960" y="2606760"/>
              <a:ext cx="21398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8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2925720"/>
            <a:ext cx="9144000" cy="1006560"/>
            <a:chOff x="0" y="2925720"/>
            <a:chExt cx="9144000" cy="1006560"/>
          </a:xfrm>
        </p:grpSpPr>
        <p:sp>
          <p:nvSpPr>
            <p:cNvPr id="175" name=""/>
            <p:cNvSpPr/>
            <p:nvPr/>
          </p:nvSpPr>
          <p:spPr>
            <a:xfrm>
              <a:off x="0" y="292572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0" y="2925720"/>
              <a:ext cx="9144000" cy="1006560"/>
              <a:chOff x="0" y="2925720"/>
              <a:chExt cx="9144000" cy="1006560"/>
            </a:xfrm>
          </p:grpSpPr>
          <p:sp>
            <p:nvSpPr>
              <p:cNvPr id="177" name=""/>
              <p:cNvSpPr/>
              <p:nvPr/>
            </p:nvSpPr>
            <p:spPr>
              <a:xfrm>
                <a:off x="0" y="292572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2925720"/>
                <a:ext cx="91440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merry_go_round_md_clr.gif"/>
          <p:cNvPicPr/>
          <p:nvPr/>
        </p:nvPicPr>
        <p:blipFill>
          <a:blip r:embed="rId1"/>
          <a:stretch/>
        </p:blipFill>
        <p:spPr>
          <a:xfrm>
            <a:off x="2590920" y="2590920"/>
            <a:ext cx="4519440" cy="3286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would you use to make a roundabout spin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447920" y="2057400"/>
            <a:ext cx="6476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would you use to lift a lid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0" y="2903400"/>
            <a:ext cx="9144000" cy="1052640"/>
            <a:chOff x="0" y="2903400"/>
            <a:chExt cx="9144000" cy="1052640"/>
          </a:xfrm>
        </p:grpSpPr>
        <p:sp>
          <p:nvSpPr>
            <p:cNvPr id="199" name=""/>
            <p:cNvSpPr/>
            <p:nvPr/>
          </p:nvSpPr>
          <p:spPr>
            <a:xfrm>
              <a:off x="0" y="290340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0" y="2903400"/>
              <a:ext cx="9144000" cy="1052640"/>
              <a:chOff x="0" y="2903400"/>
              <a:chExt cx="9144000" cy="105264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290340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903400"/>
                <a:ext cx="9144000" cy="10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ccccff"/>
                    </a:solidFill>
                    <a:uFillTx/>
                    <a:latin typeface="Arial"/>
                    <a:ea typeface="Arial"/>
                    <a:hlinkClick r:id="rId1"/>
                  </a:rPr>
                  <a:t>  </a:t>
                </a:r>
                <a:r>
                  <a:rPr b="0" lang="en-US" sz="5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 txBox="1"/>
          <p:nvPr/>
        </p:nvSpPr>
        <p:spPr>
          <a:xfrm>
            <a:off x="1447920" y="2057400"/>
            <a:ext cx="6476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0" y="2681280"/>
            <a:ext cx="9144000" cy="1495440"/>
            <a:chOff x="0" y="2681280"/>
            <a:chExt cx="9144000" cy="1495440"/>
          </a:xfrm>
        </p:grpSpPr>
        <p:sp>
          <p:nvSpPr>
            <p:cNvPr id="206" name=""/>
            <p:cNvSpPr/>
            <p:nvPr/>
          </p:nvSpPr>
          <p:spPr>
            <a:xfrm>
              <a:off x="0" y="2681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0" y="2681280"/>
              <a:ext cx="9144000" cy="1495440"/>
              <a:chOff x="0" y="2681280"/>
              <a:chExt cx="9144000" cy="149544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2681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681280"/>
                <a:ext cx="9144000" cy="149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8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10" name="" descr="cook_checking_pot_md_clr.gif"/>
          <p:cNvPicPr/>
          <p:nvPr/>
        </p:nvPicPr>
        <p:blipFill>
          <a:blip r:embed="rId2"/>
          <a:stretch/>
        </p:blipFill>
        <p:spPr>
          <a:xfrm>
            <a:off x="2971800" y="2133720"/>
            <a:ext cx="340524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4000320" cy="4000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would you use to toss a salad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0" y="2903400"/>
            <a:ext cx="9144000" cy="1052640"/>
            <a:chOff x="0" y="2903400"/>
            <a:chExt cx="9144000" cy="1052640"/>
          </a:xfrm>
        </p:grpSpPr>
        <p:sp>
          <p:nvSpPr>
            <p:cNvPr id="221" name=""/>
            <p:cNvSpPr/>
            <p:nvPr/>
          </p:nvSpPr>
          <p:spPr>
            <a:xfrm>
              <a:off x="0" y="290340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0" y="2903400"/>
              <a:ext cx="9144000" cy="1052640"/>
              <a:chOff x="0" y="2903400"/>
              <a:chExt cx="9144000" cy="105264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290340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903400"/>
                <a:ext cx="9144000" cy="10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5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" name=""/>
          <p:cNvSpPr txBox="1"/>
          <p:nvPr/>
        </p:nvSpPr>
        <p:spPr>
          <a:xfrm>
            <a:off x="1447920" y="2057400"/>
            <a:ext cx="6476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0" y="2681280"/>
            <a:ext cx="9144000" cy="1495440"/>
            <a:chOff x="0" y="2681280"/>
            <a:chExt cx="9144000" cy="1495440"/>
          </a:xfrm>
        </p:grpSpPr>
        <p:sp>
          <p:nvSpPr>
            <p:cNvPr id="228" name=""/>
            <p:cNvSpPr/>
            <p:nvPr/>
          </p:nvSpPr>
          <p:spPr>
            <a:xfrm>
              <a:off x="0" y="2681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0" y="2681280"/>
              <a:ext cx="9144000" cy="1495440"/>
              <a:chOff x="0" y="2681280"/>
              <a:chExt cx="9144000" cy="149544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2681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2681280"/>
                <a:ext cx="9144000" cy="149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8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4000680" cy="4000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s would you use to play a guitar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0" y="2903400"/>
            <a:ext cx="9144000" cy="1052640"/>
            <a:chOff x="0" y="2903400"/>
            <a:chExt cx="9144000" cy="1052640"/>
          </a:xfrm>
        </p:grpSpPr>
        <p:sp>
          <p:nvSpPr>
            <p:cNvPr id="242" name=""/>
            <p:cNvSpPr/>
            <p:nvPr/>
          </p:nvSpPr>
          <p:spPr>
            <a:xfrm>
              <a:off x="0" y="290340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0" y="2903400"/>
              <a:ext cx="9144000" cy="1052640"/>
              <a:chOff x="0" y="2903400"/>
              <a:chExt cx="9144000" cy="105264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290340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903400"/>
                <a:ext cx="9144000" cy="10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5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"/>
          <p:cNvSpPr txBox="1"/>
          <p:nvPr/>
        </p:nvSpPr>
        <p:spPr>
          <a:xfrm>
            <a:off x="1219320" y="2133720"/>
            <a:ext cx="6476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 and 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piggy_bank.gif"/>
          <p:cNvPicPr/>
          <p:nvPr/>
        </p:nvPicPr>
        <p:blipFill>
          <a:blip r:embed="rId1"/>
          <a:stretch/>
        </p:blipFill>
        <p:spPr>
          <a:xfrm>
            <a:off x="2743200" y="2209680"/>
            <a:ext cx="3697200" cy="39830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would you put money in your piggy bank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90720" y="2209680"/>
            <a:ext cx="69339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96960" y="2606760"/>
            <a:ext cx="7750080" cy="1861200"/>
            <a:chOff x="696960" y="2606760"/>
            <a:chExt cx="7750080" cy="1861200"/>
          </a:xfrm>
        </p:grpSpPr>
        <p:sp>
          <p:nvSpPr>
            <p:cNvPr id="257" name=""/>
            <p:cNvSpPr/>
            <p:nvPr/>
          </p:nvSpPr>
          <p:spPr>
            <a:xfrm>
              <a:off x="696960" y="2606760"/>
              <a:ext cx="775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6960" y="2606760"/>
              <a:ext cx="2349360" cy="18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7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96960" y="2606760"/>
            <a:ext cx="7750080" cy="1800360"/>
            <a:chOff x="696960" y="2606760"/>
            <a:chExt cx="7750080" cy="1800360"/>
          </a:xfrm>
        </p:grpSpPr>
        <p:sp>
          <p:nvSpPr>
            <p:cNvPr id="260" name=""/>
            <p:cNvSpPr/>
            <p:nvPr/>
          </p:nvSpPr>
          <p:spPr>
            <a:xfrm>
              <a:off x="696960" y="2606760"/>
              <a:ext cx="775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6960" y="2606760"/>
              <a:ext cx="21398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8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covered_wagon_horses_md_clr.gif"/>
          <p:cNvPicPr/>
          <p:nvPr/>
        </p:nvPicPr>
        <p:blipFill>
          <a:blip r:embed="rId1"/>
          <a:stretch/>
        </p:blipFill>
        <p:spPr>
          <a:xfrm>
            <a:off x="1752480" y="2514600"/>
            <a:ext cx="6096240" cy="32688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4572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re these horses pulling or pushing the cart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49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76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0" y="2765520"/>
            <a:ext cx="9144000" cy="1326960"/>
            <a:chOff x="0" y="2765520"/>
            <a:chExt cx="9144000" cy="1326960"/>
          </a:xfrm>
        </p:grpSpPr>
        <p:sp>
          <p:nvSpPr>
            <p:cNvPr id="270" name=""/>
            <p:cNvSpPr/>
            <p:nvPr/>
          </p:nvSpPr>
          <p:spPr>
            <a:xfrm>
              <a:off x="0" y="276552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0" y="2765520"/>
              <a:ext cx="9144000" cy="1326960"/>
              <a:chOff x="0" y="2765520"/>
              <a:chExt cx="9144000" cy="132696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276552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2765520"/>
                <a:ext cx="9144000" cy="13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7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0" y="2789280"/>
            <a:ext cx="9144000" cy="1281240"/>
            <a:chOff x="0" y="2789280"/>
            <a:chExt cx="9144000" cy="1281240"/>
          </a:xfrm>
        </p:grpSpPr>
        <p:sp>
          <p:nvSpPr>
            <p:cNvPr id="276" name=""/>
            <p:cNvSpPr/>
            <p:nvPr/>
          </p:nvSpPr>
          <p:spPr>
            <a:xfrm>
              <a:off x="0" y="2789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0" y="2789280"/>
              <a:ext cx="9144000" cy="1281240"/>
              <a:chOff x="0" y="2789280"/>
              <a:chExt cx="9144000" cy="128124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2789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2789280"/>
                <a:ext cx="9144000" cy="12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7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" name="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09480" y="1676520"/>
            <a:ext cx="77724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ing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0" y="2933640"/>
            <a:ext cx="9144000" cy="992160"/>
            <a:chOff x="0" y="2933640"/>
            <a:chExt cx="9144000" cy="992160"/>
          </a:xfrm>
        </p:grpSpPr>
        <p:sp>
          <p:nvSpPr>
            <p:cNvPr id="285" name=""/>
            <p:cNvSpPr/>
            <p:nvPr/>
          </p:nvSpPr>
          <p:spPr>
            <a:xfrm>
              <a:off x="0" y="293364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0" y="2933640"/>
              <a:ext cx="9144000" cy="992160"/>
              <a:chOff x="0" y="2933640"/>
              <a:chExt cx="9144000" cy="99216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293364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2933640"/>
                <a:ext cx="9144000" cy="9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5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5335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a friend is going to help you swing high……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4800600"/>
            <a:ext cx="8001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you want them to push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 pull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Swing"/>
          <p:cNvPicPr/>
          <p:nvPr/>
        </p:nvPicPr>
        <p:blipFill>
          <a:blip r:embed="rId1"/>
          <a:stretch/>
        </p:blipFill>
        <p:spPr>
          <a:xfrm>
            <a:off x="5257800" y="1295280"/>
            <a:ext cx="2103480" cy="350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990720" y="1295280"/>
            <a:ext cx="69339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11430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do you use to fasten your zip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Zip"/>
          <p:cNvPicPr/>
          <p:nvPr/>
        </p:nvPicPr>
        <p:blipFill>
          <a:blip r:embed="rId1"/>
          <a:stretch/>
        </p:blipFill>
        <p:spPr>
          <a:xfrm>
            <a:off x="457200" y="838080"/>
            <a:ext cx="1039680" cy="5257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914400" y="129528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to call your friend over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Beckon"/>
          <p:cNvPicPr/>
          <p:nvPr/>
        </p:nvPicPr>
        <p:blipFill>
          <a:blip r:embed="rId1"/>
          <a:stretch/>
        </p:blipFill>
        <p:spPr>
          <a:xfrm>
            <a:off x="1143000" y="1905120"/>
            <a:ext cx="1204920" cy="3405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43200" y="2590920"/>
            <a:ext cx="426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es your finger push or pull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14400" y="129528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animated hamm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484360"/>
            <a:ext cx="4724280" cy="4373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use a hammer do you push or pull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14400" y="160020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 and 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animated pirate digg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371600"/>
            <a:ext cx="5715000" cy="4457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s do you use to dig a hole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29528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 and pull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coffeecup.gif - 25589 By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2438280"/>
            <a:ext cx="2689200" cy="3495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do you use to pick up a cup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29528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5105520" cy="4595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s do you use to sweep the floor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1447920"/>
            <a:ext cx="69343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 and 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572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s would you use if you were in a sword fight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96960" y="2606760"/>
            <a:ext cx="7750080" cy="1861200"/>
            <a:chOff x="696960" y="2606760"/>
            <a:chExt cx="7750080" cy="1861200"/>
          </a:xfrm>
        </p:grpSpPr>
        <p:sp>
          <p:nvSpPr>
            <p:cNvPr id="114" name=""/>
            <p:cNvSpPr/>
            <p:nvPr/>
          </p:nvSpPr>
          <p:spPr>
            <a:xfrm>
              <a:off x="696960" y="2606760"/>
              <a:ext cx="775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6960" y="2606760"/>
              <a:ext cx="2349360" cy="18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7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96960" y="2606760"/>
            <a:ext cx="7750080" cy="1800360"/>
            <a:chOff x="696960" y="2606760"/>
            <a:chExt cx="7750080" cy="1800360"/>
          </a:xfrm>
        </p:grpSpPr>
        <p:sp>
          <p:nvSpPr>
            <p:cNvPr id="117" name=""/>
            <p:cNvSpPr/>
            <p:nvPr/>
          </p:nvSpPr>
          <p:spPr>
            <a:xfrm>
              <a:off x="696960" y="2606760"/>
              <a:ext cx="775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6960" y="2606760"/>
              <a:ext cx="21398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8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0" y="276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2765520"/>
            <a:ext cx="9144000" cy="1326960"/>
            <a:chOff x="0" y="2765520"/>
            <a:chExt cx="9144000" cy="1326960"/>
          </a:xfrm>
        </p:grpSpPr>
        <p:sp>
          <p:nvSpPr>
            <p:cNvPr id="121" name=""/>
            <p:cNvSpPr/>
            <p:nvPr/>
          </p:nvSpPr>
          <p:spPr>
            <a:xfrm>
              <a:off x="0" y="276552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0" y="2765520"/>
              <a:ext cx="9144000" cy="1326960"/>
              <a:chOff x="0" y="2765520"/>
              <a:chExt cx="9144000" cy="132696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276552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765520"/>
                <a:ext cx="9144000" cy="13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7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2789280"/>
            <a:ext cx="9144000" cy="1281240"/>
            <a:chOff x="0" y="2789280"/>
            <a:chExt cx="9144000" cy="1281240"/>
          </a:xfrm>
        </p:grpSpPr>
        <p:sp>
          <p:nvSpPr>
            <p:cNvPr id="127" name=""/>
            <p:cNvSpPr/>
            <p:nvPr/>
          </p:nvSpPr>
          <p:spPr>
            <a:xfrm>
              <a:off x="0" y="2789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0" y="2789280"/>
              <a:ext cx="9144000" cy="1281240"/>
              <a:chOff x="0" y="2789280"/>
              <a:chExt cx="9144000" cy="1281240"/>
            </a:xfrm>
          </p:grpSpPr>
          <p:sp>
            <p:nvSpPr>
              <p:cNvPr id="129" name=""/>
              <p:cNvSpPr/>
              <p:nvPr/>
            </p:nvSpPr>
            <p:spPr>
              <a:xfrm>
                <a:off x="0" y="2789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2789280"/>
                <a:ext cx="9144000" cy="12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ccccff"/>
                    </a:solidFill>
                    <a:uFillTx/>
                    <a:latin typeface="Arial"/>
                    <a:ea typeface="Arial"/>
                    <a:hlinkClick r:id="rId1"/>
                  </a:rPr>
                  <a:t>  </a:t>
                </a:r>
                <a:r>
                  <a:rPr b="0" lang="en-US" sz="7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2789280"/>
            <a:ext cx="9144000" cy="1281240"/>
            <a:chOff x="0" y="2789280"/>
            <a:chExt cx="9144000" cy="1281240"/>
          </a:xfrm>
        </p:grpSpPr>
        <p:sp>
          <p:nvSpPr>
            <p:cNvPr id="133" name=""/>
            <p:cNvSpPr/>
            <p:nvPr/>
          </p:nvSpPr>
          <p:spPr>
            <a:xfrm>
              <a:off x="0" y="2789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0" y="2789280"/>
              <a:ext cx="9144000" cy="1281240"/>
              <a:chOff x="0" y="2789280"/>
              <a:chExt cx="9144000" cy="1281240"/>
            </a:xfrm>
          </p:grpSpPr>
          <p:sp>
            <p:nvSpPr>
              <p:cNvPr id="135" name=""/>
              <p:cNvSpPr/>
              <p:nvPr/>
            </p:nvSpPr>
            <p:spPr>
              <a:xfrm>
                <a:off x="0" y="2789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789280"/>
                <a:ext cx="9144000" cy="12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7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7" name="" descr="vikings_fighting_md_clr.gif"/>
          <p:cNvPicPr/>
          <p:nvPr/>
        </p:nvPicPr>
        <p:blipFill>
          <a:blip r:embed="rId2"/>
          <a:stretch/>
        </p:blipFill>
        <p:spPr>
          <a:xfrm>
            <a:off x="2362320" y="2743200"/>
            <a:ext cx="4554360" cy="3036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990720" y="2209680"/>
            <a:ext cx="69339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 and 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6:19:10Z</dcterms:created>
  <dc:creator>Mairi Egger</dc:creator>
  <dc:description/>
  <dc:language>en-US</dc:language>
  <cp:lastModifiedBy>Mike Freedman</cp:lastModifiedBy>
  <dcterms:modified xsi:type="dcterms:W3CDTF">2003-08-28T13:30:41Z</dcterms:modified>
  <cp:revision>8</cp:revision>
  <dc:subject/>
  <dc:title>PowerPoint Presentation</dc:title>
</cp:coreProperties>
</file>